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60C5-04B6-4C02-B21D-4837442D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946-BD22-4226-85B9-0C8B4DB2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EB6-48C8-4EAD-80A6-B3B1C680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BDE-7536-4C19-B4CE-0C61DBB7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F069-5CE2-4824-925B-B72FE7A1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023A-362F-4B73-8084-C8886012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5ACA-8097-481F-A615-EC03E4CB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67C1-5961-49FE-8924-20CCC457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0D42-CBF4-4824-AAAB-8A8DE5F3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FA95-4DE6-4931-922E-FB291F4F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3DD1-A3D7-479F-97B9-F8E4278B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542F-2A12-473B-9513-FE5FF453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9123-43EE-449F-88F2-4023FAF7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C9EA-9878-45F4-857F-9407900A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1A5F-9A7B-4DBB-AA22-E400A056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617F-EF1B-4F6F-AF1B-39D258F9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2C20-F2A7-4383-914A-CB87C109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CD1-F335-4F27-BB93-EF6ABCE4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91A-0BCC-4C80-92EC-969C3E2D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F19-9DA4-403F-A177-FE910CFD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3560-CF8E-4214-9CCB-A5467BB0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3434-A21A-492B-8FFA-3472E5FD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AA1-7737-4D97-AFB7-FB64A9AD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DD0-3F8D-442C-A891-ACBFF599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EE0D-FD74-4DBD-BF15-941626941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8AC1-F284-401D-8B93-168E02A6E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enteroko.ru/" TargetMode="External"/><Relationship Id="rId2" Type="http://schemas.openxmlformats.org/officeDocument/2006/relationships/hyperlink" Target="http://www.centeroko.ru/" TargetMode="External"/><Relationship Id="rId3" Type="http://schemas.openxmlformats.org/officeDocument/2006/relationships/hyperlink" Target="http://www.centeroko.ru/" TargetMode="External"/><Relationship Id="rId4" Type="http://schemas.openxmlformats.org/officeDocument/2006/relationships/hyperlink" Target="http://www.centeroko.ru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03280" y="2133360"/>
            <a:ext cx="74167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Компетентностный подход </a:t>
            </a:r>
            <a:br>
              <a:rPr sz="4000"/>
            </a:b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в образовании</a:t>
            </a: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68360" y="4653000"/>
            <a:ext cx="8424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результаты российских школьник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в международном исследовании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I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6600"/>
                </a:solidFill>
                <a:latin typeface="Times New Roman"/>
              </a:rPr>
              <a:t>Способы формирования и оценивания ключевых компетентностей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ahoma"/>
              </a:rPr>
              <a:t>Интерактивно использовать инструменты взаимодействия со средой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блемное, исследовательское обучение, учебные проекты;  компетентностно ориентированные задания (тип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S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ahoma"/>
              </a:rPr>
              <a:t>Функционировать в социально неоднородных группах:</a:t>
            </a: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бные проекты; тренинги; школьный уклад, ученическое самоуправл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ahoma"/>
              </a:rPr>
              <a:t>Действовать автономн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ртфолио; учебные проекты и исследовательские задачи; кейс-технология; индивидуальная образовательная програм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Что же такое компетентностный подход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064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о организация такого процесса обучения, который имеет своей основной целью и результатом формирование ключевых компетентност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При этом подходе управление качеством образования начинается с определения состава тех компетенций, которые должны быть освоены в учебном процессе как образовательные результаты. По существу речь идет о компетентностной модели ученика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Каково качество российского образования с точки зрения наличия компетентностей у выпускников школы?</a:t>
            </a:r>
            <a:r>
              <a:rPr b="0" i="1" lang="ru-RU" sz="36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0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Как сегодня объективно оценить качество российского образования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ГЭ? </a:t>
            </a:r>
            <a:r>
              <a:rPr b="0" i="1" lang="ru-RU" sz="2800" spc="-1" strike="noStrike">
                <a:solidFill>
                  <a:srgbClr val="6600cc"/>
                </a:solidFill>
                <a:latin typeface="Tahoma"/>
              </a:rPr>
              <a:t>Не дает возможности для сравнения с международными стандар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зультаты международных олимпиад? </a:t>
            </a:r>
            <a:r>
              <a:rPr b="0" i="1" lang="ru-RU" sz="2800" spc="-1" strike="noStrike">
                <a:solidFill>
                  <a:srgbClr val="6600cc"/>
                </a:solidFill>
                <a:latin typeface="Tahoma"/>
              </a:rPr>
              <a:t>Они хороши, но в олимпиадах участвует небольшой процент школьник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зультаты международных исследований подготовки школьников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SA, TIMS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? </a:t>
            </a:r>
            <a:r>
              <a:rPr b="0" i="1" lang="ru-RU" sz="2800" spc="-1" strike="noStrike">
                <a:solidFill>
                  <a:srgbClr val="6600cc"/>
                </a:solidFill>
                <a:latin typeface="Tahoma"/>
              </a:rPr>
              <a:t>На сегодня, по-видимому, это самый объективный способ провер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Что такое </a:t>
            </a: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PISA</a:t>
            </a: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087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ая программа по оценке образовательных достижений учащихся PISA (Programme for International Student Assessment) осуществляется Организацией Экономического Сотрудничества и Развития ОЭСР (OECD – Organization for Economic Cooperation and Development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следование PISA проводится трехлетними циклами. В исследовании проводится оценка математической грамотности, естественнонаучной грамотности и грамотности чтения. Приоритетной областью PISA в 2006 году была естественнонаучная грамотность (2000 год – чтение, 2003 год – математика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Что проверяет 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ISA</a:t>
            </a: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новной целью исследования PISA является оценка образовательных достижений учащихся 15-летнего возраст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лючевой вопрос исследования – «Обладают ли эти учащиеся, получившие общее обязательное образование, знаниями и умениями, необходимыми им для полноценного функционирования в обществе?»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следование направлено не на определение уровня освоения школьных программ, а на оценку </a:t>
            </a:r>
            <a:r>
              <a:rPr b="1" lang="ru-RU" sz="2000" spc="-1" strike="noStrike">
                <a:solidFill>
                  <a:srgbClr val="6600cc"/>
                </a:solidFill>
                <a:latin typeface="Tahoma"/>
              </a:rPr>
              <a:t>способности учащихся применять полученные в школе знания и умения в жизненных ситуация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В этом отражаются современные тенденции в оценке образовательных достижений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i="1" lang="ru-RU" sz="2400" spc="-1" strike="noStrike">
                <a:solidFill>
                  <a:srgbClr val="6600cc"/>
                </a:solidFill>
                <a:latin typeface="Tahoma"/>
              </a:rPr>
              <a:t>То есть </a:t>
            </a:r>
            <a:r>
              <a:rPr b="1" i="1" lang="en-US" sz="2400" spc="-1" strike="noStrike">
                <a:solidFill>
                  <a:srgbClr val="6600cc"/>
                </a:solidFill>
                <a:latin typeface="Tahoma"/>
              </a:rPr>
              <a:t>PISA </a:t>
            </a:r>
            <a:r>
              <a:rPr b="1" i="1" lang="ru-RU" sz="2400" spc="-1" strike="noStrike">
                <a:solidFill>
                  <a:srgbClr val="6600cc"/>
                </a:solidFill>
                <a:latin typeface="Tahoma"/>
              </a:rPr>
              <a:t>направлена на проверку </a:t>
            </a:r>
            <a:r>
              <a:rPr b="0" lang="ru-RU" sz="2400" spc="-1" strike="noStrike" u="sng">
                <a:solidFill>
                  <a:srgbClr val="e5d093"/>
                </a:solidFill>
                <a:uFillTx/>
                <a:latin typeface="Tahoma"/>
                <a:hlinkClick r:id="rId4" action="ppaction://hlinksldjump"/>
              </a:rPr>
              <a:t>компетентностей</a:t>
            </a:r>
            <a:r>
              <a:rPr b="1" i="1" lang="ru-RU" sz="2400" spc="-1" strike="noStrike">
                <a:solidFill>
                  <a:srgbClr val="6600cc"/>
                </a:solidFill>
                <a:latin typeface="Tahoma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Что собой представляют тесты </a:t>
            </a: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ISA</a:t>
            </a:r>
            <a:r>
              <a:rPr b="1" i="1" lang="ru-RU" sz="3600" spc="-1" strike="noStrike">
                <a:solidFill>
                  <a:srgbClr val="cc6600"/>
                </a:solidFill>
                <a:latin typeface="Times New Roman"/>
              </a:rPr>
              <a:t>?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тестах PISA учащимся предлагались не типичные учебные задачи по физике, химии или математике, характерные для российской школы, а близкие к реальным проблемные ситуации, связанные с разнообразными аспектами окружающей жизни и требующие для своего решения не только знания основных учебных предметов, но и сформированности общеучебных и интеллектуальных уме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Кто участвует в 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ISA</a:t>
            </a: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исследовании PISA в 2006 году приняли участие около 400 тысяч учащихся из 57 стран мира. Эта выборка представляет почти 20 миллионов учащихся 15-летнего возраста этих стра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борка российских учащихся 15-летнего возраста включала 6154 обучающихся из 210 образовательных учреждений 45 регионов России. В нее вошли учащиеся основной и средней школы, которым на момент тестирования исполнилось 15 лет, а также 15-летние учащиеся и студенты образовательных учреждений начального и среднего профессионального образования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Результаты России в 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ISA-2006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 всем направлениям исследования PISA-2006 результаты российских учащихся статистически значимо ниже, чем средние международные результаты. Рейтинг российских учащихся среди своих сверстников из 57 стран с учетом ошибки измерения составляет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-38 по естественнонаучной грамотности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-36 по математической грамотности (29-31 в 2003 году из 40 стран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-40 по грамотности чтения (32-34 в 2003 году из 40 стран и 27-29 в 2000 году из 32 стран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 сравнению с результатами предыдущих циклов исследования по математике и естествознанию не произошло существенных изменений, а по чтению результаты стали статистически ниже, чем в 2000 год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Times New Roman"/>
              </a:rPr>
              <a:t>Соотношение ключевых компетентностей, грамотностей и умений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19520" y="1981080"/>
            <a:ext cx="3047760" cy="1317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лючевые компетентности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категории «Интерактивно использовать инструменты взаимодействия со средой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1828440" y="3276720"/>
            <a:ext cx="1257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67080" y="3276720"/>
            <a:ext cx="114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3276720"/>
            <a:ext cx="114300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2590920"/>
            <a:ext cx="914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2584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3886200"/>
            <a:ext cx="2209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тественнонаучная грамот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9000" y="3809880"/>
            <a:ext cx="236232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ругие предметные грамотности, напр., математическа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77120" y="3886200"/>
            <a:ext cx="190476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рамотность чт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48006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48006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91520" y="47242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240" y="207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240" y="2816280"/>
            <a:ext cx="914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886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5181480"/>
            <a:ext cx="2286000" cy="129564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бор предметных компетентностей или ум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733920" y="5181480"/>
            <a:ext cx="2361960" cy="129564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бор предметных компетентностей или ум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5720" y="5105520"/>
            <a:ext cx="1676160" cy="106668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бор ум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283536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2835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10920" y="761760"/>
            <a:ext cx="8227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Каковы ориентиры в реформировании российского образования? </a:t>
            </a:r>
            <a:br>
              <a:rPr sz="36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Каким мы хотим видеть выпускника школы?</a:t>
            </a:r>
            <a:br>
              <a:rPr sz="36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В чем должны состоять основные результаты обучения?</a:t>
            </a: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  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4419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ответах на эти вопросы все чаще звучат понятия «ключевые компетентности», «компетентностный подход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806472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Грамотность чтения – умения, овладение которыми свидетельствует о полном понимании текста: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95280" y="2147400"/>
            <a:ext cx="8748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нахождение информаци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для оценки этого умения используются задания, при выполнении которых требуется «пробежать» текст глазами, определить его основные элементы и заняться поисками необходимой единицы информации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интерпретация текст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учащимся предлагается сравнить и противопоставить заключенную в тексте информацию разного характера, обнаружить в нем доводы в подтверждение выдвинутых тезисов, сделать выводы из сформулированных посылок, вывести заключение о намерении автора или главной мысли текста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рефлексия на содержание или форму текст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учащийся должен связать информацию, обнаруженную в тексте, со знаниями из других источников, оценить утверждения, сделанные в тексте, исходя из своих представлений о мире, найти доводы в защиту своей точки зрения).  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См. задани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4000" y="929880"/>
            <a:ext cx="73342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Математическая грамотность – это способность учащихся: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96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распознавать проблем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возникающие в окружающей действительности, которые могут быть решены средствами математи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формулирова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эти проблемы на языке математи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реша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эти проблемы, используя математические факты и метод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анализирова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использованные методы реш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интерпретирова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полученные результаты с учетом поставленной проблем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формулирова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и записывать результаты реш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См. задан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Естественнонаучная грамотность – это способность учащихся: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2147400"/>
            <a:ext cx="842472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распознавать проблем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которые могут исследоваться естественнонаучными методами, демонстрируя понимание основных особенностей естественнонаучного исслед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объяснять или описывать естественнонаучные явлен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используя имеющиеся научные знания, и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прогнозирова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измен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использовать научные доказательства и имеющиеся данны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для получения выводов, их анализа и оценки достовер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См. зад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В комплексе умения по всем трем видам грамотности формируют некий</a:t>
            </a: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ПЛАН</a:t>
            </a: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55280" y="2707920"/>
            <a:ext cx="5040360" cy="34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то план действий человека в информационной среде при встрече с проблемой, которую надо решить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0764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424720" cy="10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В чем мы уступаем?</a:t>
            </a:r>
            <a:br>
              <a:rPr sz="3600"/>
            </a:b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(на примере естественнонаучной грамотности)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оссийские учащиеся 15-летнего возраста уступают своим сверстникам из многих стран мира (33-38 место на международной шкале) в способности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осваивать и использовать естественнонаучные знания для приобретения новых знаний, для объяснения естественнонаучных явлений и формулирования выводов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понимать основные особенности естественнонаучных исследований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демонстрировать осведомленность в том, что естественные науки и технология оказывают влияние на материальную, интеллектуальную и культурную сферы жизни общества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проявлять активную гражданскую позицию при рассмотрении проблем, связанных с естествознанием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1800" spc="-1" strike="noStrike">
                <a:solidFill>
                  <a:srgbClr val="6600cc"/>
                </a:solidFill>
                <a:latin typeface="Tahoma"/>
              </a:rPr>
              <a:t>При этом традиционно сильные стороны российского школьного образования, в значительной степени направленного на формирование основ наук, не могли проявиться в данном исследовании, поскольку оно было направлено на реализацию других задач, в большей степени ориентированных на требования современного информационного обществ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Каких учебных заданий нам не хватает?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ний, содержащих большой объем как текстовой информации, так и информации в виде таблиц, диаграмм, графиков, рисунков, схе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ний, составленных на материале из разных предметных областей, для выполнения которых надо интегрировать разные знания и использовать общеучебные ум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ний, в которых неясно, к какой области знаний надо обратиться, чтобы определить способ действий или информацию, необходимые для постановки и решения пробл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ний, требующих привлечения дополнительной информации или, напротив, содержащих избыточную информацию и «лишние данные»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лексных и структурированных заданий, состоящих из нескольких взаимосвязанных вопрос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6600cc"/>
                </a:solidFill>
                <a:latin typeface="Tahoma"/>
              </a:rPr>
              <a:t>Кроме того, если не считать ЕГЭ, наши школьники редко сталкиваются с необходимостью выполнения в одной работе за ограниченное время большого числа заданий разной тематики и разного формата, требующих разных форм записи ответа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Вопрос из анкеты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PISA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 для учащихся: «Как часто на уроках происходит следующее?» 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ащимся дают возможность объяснить свои иде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ащиеся выполняют лабораторные или практические рабо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т учащихся требуют спланировать, как какой-либо естественнонаучный вопрос можно исследовать в ходе эксперимен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ащиеся должны применить естественнонаучные знания для решения проблем, взятых из жиз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 уроках используются мнения учащихся об изучаемом разделе или тем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ащихся просят сформулировать выводы на основе проведенных ими экспериментов, лабораторных или практических работ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ащимся разрешается планировать свои собственные исследования или эксперимен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 уроках проводятся обсуждения или дискусс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Что делать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ключение в стандарт нового поколения требований компетентностного характера и создание новых учебно-методических комплексов под этот стандар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ключение заданий компетнтностного типа в аттестационные материалы (в т.ч. ЕГЭ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менение стиля преподавания, а значит и содержания подготовки учител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ка инновационных образовательных программ ОУ, направленных на формирование ключевых компетентностей.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24000" y="11235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. Средние результаты (в баллах) пяти стран по грамотности чт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187280" y="2492280"/>
          <a:ext cx="6985080" cy="2800440"/>
        </p:xfrm>
        <a:graphic>
          <a:graphicData uri="http://schemas.openxmlformats.org/drawingml/2006/table">
            <a:tbl>
              <a:tblPr/>
              <a:tblGrid>
                <a:gridCol w="1622520"/>
                <a:gridCol w="1838520"/>
                <a:gridCol w="1838160"/>
                <a:gridCol w="1685880"/>
              </a:tblGrid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г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50920" y="119520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. Средние результаты пяти стр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атематической грамот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332000" y="2492280"/>
          <a:ext cx="6696000" cy="2733840"/>
        </p:xfrm>
        <a:graphic>
          <a:graphicData uri="http://schemas.openxmlformats.org/drawingml/2006/table">
            <a:tbl>
              <a:tblPr/>
              <a:tblGrid>
                <a:gridCol w="1584360"/>
                <a:gridCol w="1736640"/>
                <a:gridCol w="1647720"/>
                <a:gridCol w="1727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г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798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Компетенции: от требований бизнеса к целям образования</a:t>
            </a: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41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лючевые компетенции как противопоставление специальным знаниям и умени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лючевые компетенции как универсальные составляющие любой профессиональн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лючевые компетенции как наиболее общие способности и умения, помогающие человеку ориентироваться и достигать результатов в ситуациях профессиональной, личной и общественной жизн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042920" y="11952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. Средние результаты пяти стр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естественнонаучной грамот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619280" y="2492280"/>
          <a:ext cx="6553080" cy="2733840"/>
        </p:xfrm>
        <a:graphic>
          <a:graphicData uri="http://schemas.openxmlformats.org/drawingml/2006/table">
            <a:tbl>
              <a:tblPr/>
              <a:tblGrid>
                <a:gridCol w="1512720"/>
                <a:gridCol w="1656000"/>
                <a:gridCol w="1655640"/>
                <a:gridCol w="1728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S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нг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Спасибо за внимание!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3573360"/>
            <a:ext cx="777240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териалы по исследованию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S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м. на сайте Центра оценки качества образования РА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5d093"/>
                </a:solidFill>
                <a:uFillTx/>
                <a:latin typeface="Tahoma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e5d093"/>
                </a:solidFill>
                <a:uFillTx/>
                <a:latin typeface="Tahoma"/>
                <a:hlinkClick r:id="rId2"/>
              </a:rPr>
              <a:t>centeroko</a:t>
            </a:r>
            <a:r>
              <a:rPr b="0" lang="en-US" sz="3200" spc="-1" strike="noStrike" u="sng">
                <a:solidFill>
                  <a:srgbClr val="e5d093"/>
                </a:solidFill>
                <a:uFillTx/>
                <a:latin typeface="Tahoma"/>
                <a:hlinkClick r:id="rId3"/>
              </a:rPr>
              <a:t>.</a:t>
            </a:r>
            <a:r>
              <a:rPr b="0" lang="en-US" sz="3200" spc="-1" strike="noStrike" u="sng">
                <a:solidFill>
                  <a:srgbClr val="e5d093"/>
                </a:solidFill>
                <a:uFillTx/>
                <a:latin typeface="Tahoma"/>
                <a:hlinkClick r:id="rId4"/>
              </a:rPr>
              <a:t>r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Кто определяет ключевые компетенции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4606920" cy="43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ределение и отбор ключевых компетенций осуществляется основными потребителями образовательных результатов на основе социологических исследований и общественного обсуждения и зависит от того, какие способности и качества человека признаются ценными в данное время, в данном обществ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3166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Ключевые компетентности, предложенные Советом Европы в 1996 году 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литические и социальные компетентност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такие как способность принимать ответственность, участвовать в принятии групповых решений, разрешать конфликты ненасильственно, участвовать в поддержании и улучшении демократических институт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мпетентности, связанные с жизнью в многокультурном обществ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 принятие различий между людьми, уважение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других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и способность жить с людьми других культур, языков и религ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мпетентности, относящиеся к владению устной и письменной коммуникацие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которые особенно важны для работы и социальной жизни, поскольку людям, которые не владеют ими, угрожает социальная изоляция. При этом все большее значение приобретает владение хотя бы одним иностранным язы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мпетентности, связанные с возрастанием информатизации общества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Это включает в себя: владени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понимание области их применения, сильных    и слабых сторон, а также способность                 к критическому суждению в отношении той информации, которая распространяется СМИ и рекламо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пособность учиться на протяжении жизн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которая является основой непрерывного образования, необходимого как для профессионального роста, так и в личной и социальной жизни.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Times New Roman"/>
              </a:rPr>
              <a:t>Ключевые компетентности (Европа 2005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щение на родном язык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щение на иностранных язык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тематическая компетентность и базовые компетентности в области естественных наук и технолог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CT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компетентн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мение учить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личностная, межкультурная, социальная и гражданская компетент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дприимчив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ультурная компетентн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6691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Ключевые компетентности для успешной жизни </a:t>
            </a:r>
            <a:br>
              <a:rPr sz="2800"/>
            </a:b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и эффективно функционирующего общества</a:t>
            </a:r>
            <a:br>
              <a:rPr sz="2400"/>
            </a:br>
            <a:r>
              <a:rPr b="1" i="1" lang="ru-RU" sz="2400" spc="-1" strike="noStrike">
                <a:solidFill>
                  <a:srgbClr val="cc6600"/>
                </a:solidFill>
                <a:latin typeface="Times New Roman"/>
              </a:rPr>
              <a:t>(проект </a:t>
            </a: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DeSeCo </a:t>
            </a:r>
            <a:r>
              <a:rPr b="1" i="1" lang="ru-RU" sz="2400" spc="-1" strike="noStrike">
                <a:solidFill>
                  <a:srgbClr val="cc6600"/>
                </a:solidFill>
                <a:latin typeface="Times New Roman"/>
              </a:rPr>
              <a:t>«Определение и отбор ключевых компетентностей», </a:t>
            </a: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OECD-</a:t>
            </a:r>
            <a:r>
              <a:rPr b="1" i="1" lang="ru-RU" sz="2400" spc="-1" strike="noStrike">
                <a:solidFill>
                  <a:srgbClr val="cc6600"/>
                </a:solidFill>
                <a:latin typeface="Times New Roman"/>
              </a:rPr>
              <a:t>2003)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4191120"/>
            <a:ext cx="304776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Действовать     самостоятельно (автономн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19720" y="2666880"/>
            <a:ext cx="327636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 Unicode MS"/>
                <a:ea typeface="Arial Unicode MS"/>
              </a:rPr>
              <a:t>Взаимодействовать с людь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 Unicode MS"/>
                <a:ea typeface="Arial Unicode MS"/>
              </a:rPr>
              <a:t>в неоднород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 Unicode MS"/>
                <a:ea typeface="Arial Unicode MS"/>
              </a:rPr>
              <a:t>по составу групп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2666880"/>
            <a:ext cx="3047760" cy="2057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Использовать  инструменты взаимодействия со средой (язык, знания, ИТ и др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2014560"/>
            <a:ext cx="91440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014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353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Ключевые компетентности для успешной жизни </a:t>
            </a:r>
            <a:br>
              <a:rPr sz="2800"/>
            </a:b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и эффективно функционирующего общества</a:t>
            </a:r>
            <a:br>
              <a:rPr sz="2400"/>
            </a:br>
            <a:r>
              <a:rPr b="1" i="1" lang="ru-RU" sz="2400" spc="-1" strike="noStrike">
                <a:solidFill>
                  <a:srgbClr val="cc6600"/>
                </a:solidFill>
                <a:latin typeface="Times New Roman"/>
              </a:rPr>
              <a:t>(проект </a:t>
            </a: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DeSeCo </a:t>
            </a:r>
            <a:r>
              <a:rPr b="1" i="1" lang="ru-RU" sz="2400" spc="-1" strike="noStrike">
                <a:solidFill>
                  <a:srgbClr val="cc6600"/>
                </a:solidFill>
                <a:latin typeface="Times New Roman"/>
              </a:rPr>
              <a:t>«Определение и отбор ключевых компетентностей», </a:t>
            </a: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OECD-</a:t>
            </a:r>
            <a:r>
              <a:rPr b="1" i="1" lang="ru-RU" sz="2400" spc="-1" strike="noStrike">
                <a:solidFill>
                  <a:srgbClr val="cc6600"/>
                </a:solidFill>
                <a:latin typeface="Times New Roman"/>
              </a:rPr>
              <a:t>2003)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49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терактивно использовать инструменты взаимодействия со средой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пособность интерактивно использовать язык, символы и тексты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ISA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пособность интерактивно использовать знания и информацию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ISA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пособность интерактивно использовать технолог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Функционировать в социально неоднородных группах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пособность строить отношения с другими людьм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пособность к сотрудничеству, работе в команд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пособность разрешать конфликт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ействовать автономн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пособность действовать, учитывая широкий контекс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пособность строить и осуществлять жизненные планы и проект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пособность сознавать и отстаивать свои права, интересы, обязанности и потребност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496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Существует множество «наборов» ключевых компетентностей. </a:t>
            </a:r>
            <a:br>
              <a:rPr sz="2800"/>
            </a:b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На каком из них остановиться?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491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говор о ключевых компетентностях имеет отношение к реальному образованию, только если можно ответить на вопрос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Какими способами формируются компетентности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И как они «измеряются»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278748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09:06:39Z</dcterms:created>
  <dc:creator>pentin</dc:creator>
  <dc:description/>
  <dc:language>en-US</dc:language>
  <cp:lastModifiedBy>pentin</cp:lastModifiedBy>
  <dcterms:modified xsi:type="dcterms:W3CDTF">2010-11-29T17:17:39Z</dcterms:modified>
  <cp:revision>108</cp:revision>
  <dc:subject/>
  <dc:title>Конкурс лучших учителей</dc:title>
</cp:coreProperties>
</file>