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35.png" ContentType="image/png"/>
  <Override PartName="/ppt/media/image38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1.jpeg" ContentType="image/jpeg"/>
  <Override PartName="/ppt/media/image44.png" ContentType="image/png"/>
  <Override PartName="/ppt/media/image33.png" ContentType="image/png"/>
  <Override PartName="/ppt/media/image4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4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12.wmf" ContentType="image/x-wmf"/>
  <Override PartName="/ppt/media/image27.png" ContentType="image/png"/>
  <Override PartName="/ppt/media/image7.png" ContentType="image/png"/>
  <Override PartName="/ppt/media/image37.png" ContentType="image/png"/>
  <Override PartName="/ppt/media/image47.wmf" ContentType="image/x-wmf"/>
  <Override PartName="/ppt/media/image10.wmf" ContentType="image/x-wmf"/>
  <Override PartName="/ppt/media/image40.png" ContentType="image/png"/>
  <Override PartName="/ppt/media/image8.wmf" ContentType="image/x-wmf"/>
  <Override PartName="/ppt/media/image4.jpeg" ContentType="image/jpe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789738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896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941688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1E07-5498-4134-82FE-F63558A2E1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E8F3-A95F-41DF-95B2-31927485B5C5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8670-C1B6-40C6-B934-A20D11FCF5EC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2069-4448-4C26-89FF-D138F8B887D1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E6F9-F217-48BF-9B89-E844592AC9B6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C3D0-B837-4819-A426-696BD9D38BA4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FA3B-A732-4EF9-81AD-DC2F7D7FF33B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F69E-BA14-4E98-B60B-74D03FE743DD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0844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3844800" y="941688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2F18-AAA2-49E4-A530-1F8BE0CC3009}" type="slidenum">
              <a:rPr b="0" lang="ru-RU" sz="1200" spc="-1" strike="noStrike">
                <a:solidFill>
                  <a:srgbClr val="205ff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D98-FE6C-40A7-8BDF-532317AE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11F-DF66-427E-AE2D-5ABA4133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ABC-1C4E-4D06-9F6A-4993A858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700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144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700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144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5E9-0C51-4774-9F8A-B890847A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E4409-C87A-49A9-B7F4-B5A686B8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3BABE-423B-4EE6-9657-05480523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1C175-1832-4C46-85B2-DD05AE50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5895C-38AA-4B1A-81CF-CD99083B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F5721-F5A3-45EB-AC33-2908C619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0A682-C3FF-4CBE-A067-BE8203B6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C8FEF-2B22-461F-9093-FA1188FD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E9B-7291-4E63-BEC3-9B24D869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A6D7F-179D-478C-9788-AD276557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1A8BF-FDEE-4085-B6B4-B32225CC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A22AD-ECCE-4C11-95D8-D332CAFB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E9A07-EA01-4A19-B5AB-3AF4FA4E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2700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1144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256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2700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1144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740C2-19D1-46F7-9C59-F75DD93B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847EF-8FA0-4FC4-B3F5-34C082F4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A193A-2FE6-4E7F-A541-E68FF69F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E3FF0-E507-49EA-A704-E1F278C5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CC33-7757-4D07-82E3-9FC89DE9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70E3-5685-4F75-ADD0-28E40DE6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1C7-003B-41D8-9BCC-5EE74E16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779C1-1671-48C1-9453-8C546181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3E7C-B2D2-4597-B634-9F95AFE4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04ECE-8C63-4B76-BCB5-0E7493E8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0E44-6EC0-4147-8FE6-9A79460D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76484-6334-4771-B5F7-4FC4D544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7928-5306-4A14-91E8-A46833F2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2700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1144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4256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2700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1144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C78E-27B8-483C-9199-0BF706CB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CD308-9064-4790-958A-32DF7479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2D098-3F9E-46CD-9413-8F388727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61EF3-5CD9-469E-83B2-0E0A631F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F82-1C47-413A-82D3-2D994DFE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7896-0464-4A19-93C1-E06AA88A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5C601-8ADE-45D9-91B9-36EE50F5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AAA4-6D6E-4E7E-B9BD-27AA7DAE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9FC4C-F218-45AB-9126-23A107C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3F249-4F8F-4746-8453-3695F79D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AF918-7815-4986-BDE7-C5C491D8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1347F-2468-4188-94F4-8DC6CA99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8DFED-D0D9-494E-9A6B-0401FF14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2700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11440" y="160020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04256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2700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11440" y="3964320"/>
            <a:ext cx="246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7EBC0-BAC1-4688-84DB-80499339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96D-D60D-45A9-B697-C6F1A57C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E02-0CE6-4D9E-86B1-357ED2A1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667-32B6-42F4-874F-02DCE21B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9360" y="396432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2DE-C796-4649-B28B-3AFF3B30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9360" y="1600200"/>
            <a:ext cx="372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964320"/>
            <a:ext cx="764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BCE-3BA7-4CEC-8822-28AE0969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1080" y="645336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F77D-E222-4416-9C35-624ACD530A7B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24DC-328D-43E9-B428-12DAC4839E28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1D29-B5C9-4BDA-96E2-7F6EA3B07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5F09-7693-496E-8619-E59AD3149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1700280"/>
            <a:ext cx="9144000" cy="6858000"/>
            <a:chOff x="0" y="1700280"/>
            <a:chExt cx="9144000" cy="685800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0" y="1700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 txBox="1"/>
            <p:nvPr/>
          </p:nvSpPr>
          <p:spPr>
            <a:xfrm>
              <a:off x="395280" y="4799160"/>
              <a:ext cx="208908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99">
                      <a:alpha val="50000"/>
                    </a:srgbClr>
                  </a:solidFill>
                  <a:latin typeface="Impact"/>
                </a:rPr>
                <a:t>PIS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95280" y="5807160"/>
              <a:ext cx="208908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99">
                      <a:alpha val="50000"/>
                    </a:srgbClr>
                  </a:solidFill>
                  <a:latin typeface="Impact"/>
                </a:rPr>
                <a:t>OEC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>
                    <a:alpha val="50000"/>
                  </a:srgbClr>
                </a:solidFill>
                <a:latin typeface="Impact"/>
                <a:ea typeface="Impac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oecd.org/edu/pisa" TargetMode="External"/><Relationship Id="rId2" Type="http://schemas.openxmlformats.org/officeDocument/2006/relationships/hyperlink" Target="http://www.oecd.org/edu/pisa" TargetMode="External"/><Relationship Id="rId3" Type="http://schemas.openxmlformats.org/officeDocument/2006/relationships/hyperlink" Target="http://www.oecd.org/edu/pisa" TargetMode="External"/><Relationship Id="rId4" Type="http://schemas.openxmlformats.org/officeDocument/2006/relationships/hyperlink" Target="http://www.oecd.org/edu/pisa" TargetMode="External"/><Relationship Id="rId5" Type="http://schemas.openxmlformats.org/officeDocument/2006/relationships/hyperlink" Target="http://www.oecd.org/edu/pisa" TargetMode="External"/><Relationship Id="rId6" Type="http://schemas.openxmlformats.org/officeDocument/2006/relationships/hyperlink" Target="http://www.oecd.org/edu/pisa" TargetMode="External"/><Relationship Id="rId7" Type="http://schemas.openxmlformats.org/officeDocument/2006/relationships/hyperlink" Target="http://www.oecd.org/edu/pisa" TargetMode="External"/><Relationship Id="rId8" Type="http://schemas.openxmlformats.org/officeDocument/2006/relationships/hyperlink" Target="http://www.oecd.org/edu/pisa" TargetMode="External"/><Relationship Id="rId9" Type="http://schemas.openxmlformats.org/officeDocument/2006/relationships/hyperlink" Target="http://www.oecd.org/edu/pisa" TargetMode="External"/><Relationship Id="rId10" Type="http://schemas.openxmlformats.org/officeDocument/2006/relationships/hyperlink" Target="http://www.acer.edu.au/" TargetMode="External"/><Relationship Id="rId11" Type="http://schemas.openxmlformats.org/officeDocument/2006/relationships/hyperlink" Target="http://www.acer.edu.au/" TargetMode="External"/><Relationship Id="rId12" Type="http://schemas.openxmlformats.org/officeDocument/2006/relationships/hyperlink" Target="http://www.acer.edu.au/" TargetMode="External"/><Relationship Id="rId13" Type="http://schemas.openxmlformats.org/officeDocument/2006/relationships/hyperlink" Target="http://www.acer.edu.au/" TargetMode="External"/><Relationship Id="rId14" Type="http://schemas.openxmlformats.org/officeDocument/2006/relationships/hyperlink" Target="http://www.acer.edu.au/" TargetMode="External"/><Relationship Id="rId15" Type="http://schemas.openxmlformats.org/officeDocument/2006/relationships/hyperlink" Target="http://www.acer.edu.au/" TargetMode="External"/><Relationship Id="rId16" Type="http://schemas.openxmlformats.org/officeDocument/2006/relationships/hyperlink" Target="http://www.acer.edu.au/" TargetMode="External"/><Relationship Id="rId17" Type="http://schemas.openxmlformats.org/officeDocument/2006/relationships/hyperlink" Target="http://www.acer.edu.au/" TargetMode="External"/><Relationship Id="rId18" Type="http://schemas.openxmlformats.org/officeDocument/2006/relationships/hyperlink" Target="http://www.acer.edu.au/" TargetMode="External"/><Relationship Id="rId19" Type="http://schemas.openxmlformats.org/officeDocument/2006/relationships/hyperlink" Target="http://www.acer.edu.au/" TargetMode="External"/><Relationship Id="rId20" Type="http://schemas.openxmlformats.org/officeDocument/2006/relationships/hyperlink" Target="http://www.centeroko.ru/" TargetMode="External"/><Relationship Id="rId21" Type="http://schemas.openxmlformats.org/officeDocument/2006/relationships/hyperlink" Target="http://www.centeroko.ru/" TargetMode="External"/><Relationship Id="rId22" Type="http://schemas.openxmlformats.org/officeDocument/2006/relationships/hyperlink" Target="http://www.centeroko.ru/" TargetMode="External"/><Relationship Id="rId23" Type="http://schemas.openxmlformats.org/officeDocument/2006/relationships/hyperlink" Target="http://www.centeroko.ru/" TargetMode="External"/><Relationship Id="rId24" Type="http://schemas.openxmlformats.org/officeDocument/2006/relationships/hyperlink" Target="http://www.centeroko.ru/" TargetMode="External"/><Relationship Id="rId25" Type="http://schemas.openxmlformats.org/officeDocument/2006/relationships/hyperlink" Target="http://www.centeroko.ru/" TargetMode="External"/><Relationship Id="rId26" Type="http://schemas.openxmlformats.org/officeDocument/2006/relationships/hyperlink" Target="http://www.centeroko.ru/" TargetMode="External"/><Relationship Id="rId27" Type="http://schemas.openxmlformats.org/officeDocument/2006/relationships/hyperlink" Target="http://www.centeroko.ru/" TargetMode="External"/><Relationship Id="rId28" Type="http://schemas.openxmlformats.org/officeDocument/2006/relationships/hyperlink" Target="mailto:centeroko@mail.ru" TargetMode="External"/><Relationship Id="rId29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ые результаты международной программы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SA-200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556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оскв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 декабря 2010 год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менение положения российских учащихся по читательской грамотности сред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ан-участниц программы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SA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04840" y="1341360"/>
          <a:ext cx="7643880" cy="4896000"/>
        </p:xfrm>
        <a:graphic>
          <a:graphicData uri="http://schemas.openxmlformats.org/drawingml/2006/table">
            <a:tbl>
              <a:tblPr/>
              <a:tblGrid>
                <a:gridCol w="2170080"/>
                <a:gridCol w="1436760"/>
                <a:gridCol w="1295280"/>
                <a:gridCol w="1220760"/>
                <a:gridCol w="1521000"/>
              </a:tblGrid>
              <a:tr h="3938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0 год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3 год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6 год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9 год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3315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Число стран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Положение России </a:t>
                      </a:r>
                      <a:br>
                        <a:rPr sz="1300"/>
                      </a:br>
                      <a:r>
                        <a:rPr b="1" i="1" lang="en-US" sz="13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(с учетом ошибки измерения)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-29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-34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-40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-43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Средний балл России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2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2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0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9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406440">
                <a:tc gridSpan="5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авнение стран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участниц программы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SA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64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стран, результаты которых </a:t>
                      </a: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ВЫШЕ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ов России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стран, результаты которых </a:t>
                      </a: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СРАВНИМЫ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 результатами России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ртугалия, Латвия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урция, Уругвай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br>
                        <a:rPr sz="1300"/>
                      </a:b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урция, Чили, Израиль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стрия, Литва, Турция, Дубай (ОАЭ)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 стран, результаты которых </a:t>
                      </a: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НИЖЕ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ов России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endParaRPr b="0" lang="en-US" sz="13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ение математической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мотности в исследова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атематическая грамотно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особность человека определять и понимать роль математики в мире, в котором он живет, высказывать хорошо обоснованные математические суждения и использовать математику так, чтобы удовлетворять в настоящем и будущем потребности, присущие созидательному, заинтересованному и мыслящему гражданину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зультаты стран по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атематической грамо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513400" y="1257480"/>
            <a:ext cx="3379680" cy="5340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932360" y="4221000"/>
            <a:ext cx="3956040" cy="289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48360" y="1382760"/>
            <a:ext cx="360360" cy="2909880"/>
          </a:xfrm>
          <a:custGeom>
            <a:avLst/>
            <a:gdLst>
              <a:gd name="textAreaLeft" fmla="*/ 230400 w 360360"/>
              <a:gd name="textAreaRight" fmla="*/ 360720 w 360360"/>
              <a:gd name="textAreaTop" fmla="*/ 75600 h 2909880"/>
              <a:gd name="textAreaBottom" fmla="*/ 2834280 h 29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48360" y="4292640"/>
            <a:ext cx="349200" cy="288720"/>
          </a:xfrm>
          <a:custGeom>
            <a:avLst/>
            <a:gdLst>
              <a:gd name="textAreaLeft" fmla="*/ 223200 w 349200"/>
              <a:gd name="textAreaRight" fmla="*/ 349560 w 34920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4618080"/>
            <a:ext cx="342720" cy="1878120"/>
          </a:xfrm>
          <a:custGeom>
            <a:avLst/>
            <a:gdLst>
              <a:gd name="textAreaLeft" fmla="*/ 218880 w 342720"/>
              <a:gd name="textAreaRight" fmla="*/ 343080 w 342720"/>
              <a:gd name="textAreaTop" fmla="*/ 48960 h 1878120"/>
              <a:gd name="textAreaBottom" fmla="*/ 1829160 h 187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1989000"/>
            <a:ext cx="388944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Лидирующие страны и территории: Шанхай (Китай), Сингапур, Гонконг (Китай),  Корея,  Тайвань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36 стран, </a:t>
            </a:r>
            <a:br>
              <a:rPr sz="1600"/>
            </a:b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средний балл которых статистически значимо </a:t>
            </a:r>
            <a:r>
              <a:rPr b="1" lang="en-US" sz="1600" spc="-1" strike="noStrike" u="sng">
                <a:solidFill>
                  <a:srgbClr val="205ff6"/>
                </a:solidFill>
                <a:uFillTx/>
                <a:latin typeface="Arial"/>
              </a:rPr>
              <a:t>выше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 среднего балла Росси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53006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25 стран, средний балл которых статистически значимо </a:t>
            </a:r>
            <a:r>
              <a:rPr b="1" lang="en-US" sz="1600" spc="-1" strike="noStrike" u="sng">
                <a:solidFill>
                  <a:srgbClr val="205ff6"/>
                </a:solidFill>
                <a:uFillTx/>
                <a:latin typeface="Arial"/>
              </a:rPr>
              <a:t>ниже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 среднего балла Росси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4076640"/>
            <a:ext cx="3960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3 страны, средний балл которых не отличается от балла России </a:t>
            </a:r>
            <a:br>
              <a:rPr sz="1600"/>
            </a:b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(Литва, Греция, Хорватия)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9223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ение естественнонаучной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мотности в исследова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05ff6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05ff6"/>
                </a:solidFill>
                <a:latin typeface="Arial"/>
              </a:rPr>
              <a:t>Естественнонаучная грамотность</a:t>
            </a: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 – способность человека осваивать и использовать естественнонаучные знания для распознания и постановки вопросов, для освоения новых знаний, для объяснения естественнонаучных явлений и формулирования основанных на научных доказательствах выводов в связи с естественнонаучной проблематикой; понимать основные особенности естествознания как формы человеческого познания; демонстрировать осведомленность в том, что естественные науки и технология оказывают влияние на материальную, интеллектуальную и культурную сферы общества; проявлять активную гражданскую позицию при рассмотрении проблем, связанных с естествознанием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зультаты стран по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стественнонаучной грамо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08720" y="1243080"/>
            <a:ext cx="3382920" cy="5337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003640" y="4292640"/>
            <a:ext cx="388944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076720" y="1382760"/>
            <a:ext cx="398520" cy="2909880"/>
          </a:xfrm>
          <a:custGeom>
            <a:avLst/>
            <a:gdLst>
              <a:gd name="textAreaLeft" fmla="*/ 254520 w 398520"/>
              <a:gd name="textAreaRight" fmla="*/ 398880 w 398520"/>
              <a:gd name="textAreaTop" fmla="*/ 75600 h 2909880"/>
              <a:gd name="textAreaBottom" fmla="*/ 2834280 h 29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08400" y="4327560"/>
            <a:ext cx="349560" cy="309600"/>
          </a:xfrm>
          <a:custGeom>
            <a:avLst/>
            <a:gdLst>
              <a:gd name="textAreaLeft" fmla="*/ 223560 w 349560"/>
              <a:gd name="textAreaRight" fmla="*/ 349920 w 349560"/>
              <a:gd name="textAreaTop" fmla="*/ 7920 h 309600"/>
              <a:gd name="textAreaBottom" fmla="*/ 301680 h 3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76720" y="4707000"/>
            <a:ext cx="398520" cy="1817640"/>
          </a:xfrm>
          <a:custGeom>
            <a:avLst/>
            <a:gdLst>
              <a:gd name="textAreaLeft" fmla="*/ 254520 w 398520"/>
              <a:gd name="textAreaRight" fmla="*/ 398880 w 398520"/>
              <a:gd name="textAreaTop" fmla="*/ 47160 h 1817640"/>
              <a:gd name="textAreaBottom" fmla="*/ 1770480 h 181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87280" y="2060640"/>
            <a:ext cx="388944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Лидирующие страны и территории: Шанхай (Китай), Финляндия, Гонконг (Китай), Сингапур, Япония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37 стран, </a:t>
            </a:r>
            <a:br>
              <a:rPr sz="1600"/>
            </a:b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средний балл которых статистически значимо </a:t>
            </a:r>
            <a:r>
              <a:rPr b="1" lang="en-US" sz="1600" spc="-1" strike="noStrike" u="sng">
                <a:solidFill>
                  <a:srgbClr val="205ff6"/>
                </a:solidFill>
                <a:uFillTx/>
                <a:latin typeface="Arial"/>
              </a:rPr>
              <a:t>выше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 среднего балла Росси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042920" y="53006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24 страны, средний балл которых статистически значимо </a:t>
            </a:r>
            <a:r>
              <a:rPr b="1" lang="en-US" sz="1600" spc="-1" strike="noStrike" u="sng">
                <a:solidFill>
                  <a:srgbClr val="205ff6"/>
                </a:solidFill>
                <a:uFillTx/>
                <a:latin typeface="Arial"/>
              </a:rPr>
              <a:t>ниже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 среднего балла Росси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3963960"/>
            <a:ext cx="39607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4 страны, средний балл которых не отличается от балла России </a:t>
            </a:r>
            <a:br>
              <a:rPr sz="1600"/>
            </a:b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(Хорватия, Люксембург, Греция, </a:t>
            </a:r>
            <a:br>
              <a:rPr sz="1600"/>
            </a:b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Дубай (ОАЭ))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ровни функциональной грамо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2232000" cy="5545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19640" y="2303640"/>
            <a:ext cx="4897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амостоятельно мыслящие и способные функционировать в сложных условия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16360" y="1844640"/>
            <a:ext cx="360360" cy="1440000"/>
          </a:xfrm>
          <a:custGeom>
            <a:avLst/>
            <a:gdLst>
              <a:gd name="textAreaLeft" fmla="*/ 0 w 360360"/>
              <a:gd name="textAreaRight" fmla="*/ 129960 w 360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87640" y="3357720"/>
            <a:ext cx="5688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05ff6"/>
                </a:solidFill>
                <a:latin typeface="Arial"/>
              </a:rPr>
              <a:t>4 уровень</a:t>
            </a: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роявляется способность использовать имеющиеся знания и умения для получения новой информаци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87640" y="4692600"/>
            <a:ext cx="5832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05ff6"/>
                </a:solidFill>
                <a:latin typeface="Arial"/>
              </a:rPr>
              <a:t>2 уровень</a:t>
            </a: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ороговый, при достижении которого учащиеся начинают демонстрировать применение знаний и умений в простейших не учебных ситуация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пределение учащихся по уровням функциональной грамо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2411280" y="1203480"/>
            <a:ext cx="4565880" cy="2585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2411280" y="3795840"/>
            <a:ext cx="45673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ндерные различ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6000" y="1484280"/>
            <a:ext cx="2087640" cy="54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Читательская</a:t>
            </a:r>
            <a:br>
              <a:rPr sz="1800"/>
            </a:b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грамо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83280" y="1584360"/>
            <a:ext cx="2449440" cy="54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Математическая</a:t>
            </a:r>
            <a:br>
              <a:rPr sz="1800"/>
            </a:b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грамо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3280" y="2232000"/>
            <a:ext cx="2448000" cy="54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Естественнонаучная грамо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2997360"/>
            <a:ext cx="2232360" cy="2303280"/>
          </a:xfrm>
          <a:custGeom>
            <a:avLst/>
            <a:gdLst>
              <a:gd name="textAreaLeft" fmla="*/ 108720 w 2232360"/>
              <a:gd name="textAreaRight" fmla="*/ 2123640 w 2232360"/>
              <a:gd name="textAreaTop" fmla="*/ 108720 h 2303280"/>
              <a:gd name="textAreaBottom" fmla="*/ 2194560 h 2303280"/>
            </a:gdLst>
            <a:ahLst/>
            <a:rect l="textAreaLeft" t="textAreaTop" r="textAreaRight" b="textAreaBottom"/>
            <a:pathLst>
              <a:path w="21600" h="22286">
                <a:moveTo>
                  <a:pt x="3600" y="0"/>
                </a:moveTo>
                <a:arcTo wR="3600" hR="3600" stAng="16200000" swAng="-5400000"/>
                <a:lnTo>
                  <a:pt x="0" y="18686"/>
                </a:lnTo>
                <a:arcTo wR="3600" hR="3600" stAng="10800000" swAng="-5400000"/>
                <a:lnTo>
                  <a:pt x="18000" y="222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Во всех странах </a:t>
            </a:r>
            <a:br>
              <a:rPr sz="1800"/>
            </a:b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читательская </a:t>
            </a:r>
            <a:br>
              <a:rPr sz="1800"/>
            </a:b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грамотность</a:t>
            </a:r>
            <a:br>
              <a:rPr sz="1800"/>
            </a:b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 девушек выше, </a:t>
            </a:r>
            <a:br>
              <a:rPr sz="1800"/>
            </a:b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чем юношей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2997360"/>
            <a:ext cx="2519640" cy="2736720"/>
          </a:xfrm>
          <a:custGeom>
            <a:avLst/>
            <a:gdLst>
              <a:gd name="textAreaLeft" fmla="*/ 122760 w 2519640"/>
              <a:gd name="textAreaRight" fmla="*/ 2396880 w 2519640"/>
              <a:gd name="textAreaTop" fmla="*/ 122760 h 2736720"/>
              <a:gd name="textAreaBottom" fmla="*/ 2613960 h 2736720"/>
            </a:gdLst>
            <a:ahLst/>
            <a:rect l="textAreaLeft" t="textAreaTop" r="textAreaRight" b="textAreaBottom"/>
            <a:pathLst>
              <a:path w="21600" h="23461">
                <a:moveTo>
                  <a:pt x="3600" y="0"/>
                </a:moveTo>
                <a:arcTo wR="3600" hR="3600" stAng="16200000" swAng="-5400000"/>
                <a:lnTo>
                  <a:pt x="0" y="19861"/>
                </a:lnTo>
                <a:arcTo wR="3600" hR="3600" stAng="10800000" swAng="-5400000"/>
                <a:lnTo>
                  <a:pt x="18000" y="234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В России</a:t>
            </a:r>
            <a:br>
              <a:rPr sz="1800"/>
            </a:b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гендерные </a:t>
            </a:r>
            <a:br>
              <a:rPr sz="1800"/>
            </a:b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различия</a:t>
            </a:r>
            <a:br>
              <a:rPr sz="1800"/>
            </a:b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 не выявляются </a:t>
            </a:r>
            <a:br>
              <a:rPr sz="1800"/>
            </a:b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В других странах</a:t>
            </a:r>
            <a:br>
              <a:rPr sz="1800"/>
            </a:b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наблюдаются </a:t>
            </a:r>
            <a:br>
              <a:rPr sz="1800"/>
            </a:b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разные</a:t>
            </a:r>
            <a:br>
              <a:rPr sz="1800"/>
            </a:b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 тенден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492360" y="2349360"/>
            <a:ext cx="249732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езультаты российских учащихся, отличающихся образовательными программами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8101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46240" y="1052640"/>
            <a:ext cx="8789400" cy="5501880"/>
            <a:chOff x="246240" y="1052640"/>
            <a:chExt cx="8789400" cy="55018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1398240" y="1168200"/>
              <a:ext cx="1320480" cy="53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946080" y="1052640"/>
              <a:ext cx="240912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317160" y="2809800"/>
              <a:ext cx="2439360" cy="1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246240" y="4462560"/>
              <a:ext cx="2485080" cy="36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246240" y="4867200"/>
              <a:ext cx="24534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6"/>
            <a:stretch/>
          </p:blipFill>
          <p:spPr>
            <a:xfrm>
              <a:off x="317160" y="5656320"/>
              <a:ext cx="2447280" cy="1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7"/>
            <a:stretch/>
          </p:blipFill>
          <p:spPr>
            <a:xfrm>
              <a:off x="4069440" y="1154160"/>
              <a:ext cx="1328400" cy="53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8"/>
            <a:stretch/>
          </p:blipFill>
          <p:spPr>
            <a:xfrm>
              <a:off x="7020360" y="1154160"/>
              <a:ext cx="1360080" cy="53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9"/>
            <a:stretch/>
          </p:blipFill>
          <p:spPr>
            <a:xfrm>
              <a:off x="3447360" y="1055520"/>
              <a:ext cx="266652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0"/>
            <a:stretch/>
          </p:blipFill>
          <p:spPr>
            <a:xfrm>
              <a:off x="6293160" y="1054080"/>
              <a:ext cx="2742480" cy="19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1"/>
            <a:stretch/>
          </p:blipFill>
          <p:spPr>
            <a:xfrm>
              <a:off x="3125160" y="2809800"/>
              <a:ext cx="2260080" cy="17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2"/>
            <a:stretch/>
          </p:blipFill>
          <p:spPr>
            <a:xfrm>
              <a:off x="3104640" y="4054320"/>
              <a:ext cx="2280600" cy="3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3"/>
            <a:stretch/>
          </p:blipFill>
          <p:spPr>
            <a:xfrm>
              <a:off x="3085560" y="4525920"/>
              <a:ext cx="230256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4"/>
            <a:stretch/>
          </p:blipFill>
          <p:spPr>
            <a:xfrm>
              <a:off x="3080880" y="5145120"/>
              <a:ext cx="2302560" cy="1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5"/>
            <a:stretch/>
          </p:blipFill>
          <p:spPr>
            <a:xfrm>
              <a:off x="6034320" y="2666880"/>
              <a:ext cx="23457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6"/>
            <a:stretch/>
          </p:blipFill>
          <p:spPr>
            <a:xfrm>
              <a:off x="5972400" y="4260600"/>
              <a:ext cx="2388600" cy="1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17"/>
            <a:stretch/>
          </p:blipFill>
          <p:spPr>
            <a:xfrm>
              <a:off x="6004080" y="4454280"/>
              <a:ext cx="2349000" cy="1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8"/>
            <a:stretch/>
          </p:blipFill>
          <p:spPr>
            <a:xfrm>
              <a:off x="6013800" y="4640040"/>
              <a:ext cx="235332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9"/>
            <a:stretch/>
          </p:blipFill>
          <p:spPr>
            <a:xfrm>
              <a:off x="5956560" y="5005440"/>
              <a:ext cx="2388600" cy="18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язь результатов образовательных учреждений и социальных, экономических и культурных характеристик семей учащихс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42560" y="1267920"/>
            <a:ext cx="23050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7623360" cy="4249440"/>
          </a:xfrm>
          <a:prstGeom prst="rect">
            <a:avLst/>
          </a:prstGeom>
          <a:ln w="0">
            <a:noFill/>
          </a:ln>
        </p:spPr>
      </p:pic>
      <p:sp>
        <p:nvSpPr>
          <p:cNvPr id="270" name="Скругленный прямоугольник 6"/>
          <p:cNvSpPr/>
          <p:nvPr/>
        </p:nvSpPr>
        <p:spPr>
          <a:xfrm>
            <a:off x="4211640" y="1413000"/>
            <a:ext cx="158436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  <a:ea typeface="Arial"/>
              </a:rPr>
              <a:t>Росс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какие вопросы может ответить программ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-200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во состояние российского образования с точки зрения международных стандартов, основанных на компетентностном подход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изменилось в российском образовании за последнее десятилетие с точки зрения компетентностного подхода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направлении следует совершенствовать российское образование? Какие средства и методы можно использовать для достижения положительного эффекта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91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язь результатов образовательных учреждений и социальных, экономических и культурных характеристик семей учащихс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Группа 4"/>
          <p:cNvGrpSpPr/>
          <p:nvPr/>
        </p:nvGrpSpPr>
        <p:grpSpPr>
          <a:xfrm>
            <a:off x="166680" y="1052640"/>
            <a:ext cx="8869320" cy="5616360"/>
            <a:chOff x="166680" y="1052640"/>
            <a:chExt cx="8869320" cy="5616360"/>
          </a:xfrm>
        </p:grpSpPr>
        <p:pic>
          <p:nvPicPr>
            <p:cNvPr id="273" name="Picture 2" descr=""/>
            <p:cNvPicPr/>
            <p:nvPr/>
          </p:nvPicPr>
          <p:blipFill>
            <a:blip r:embed="rId1"/>
            <a:stretch/>
          </p:blipFill>
          <p:spPr>
            <a:xfrm>
              <a:off x="2122560" y="1052640"/>
              <a:ext cx="5112720" cy="288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Группа 6"/>
            <p:cNvGrpSpPr/>
            <p:nvPr/>
          </p:nvGrpSpPr>
          <p:grpSpPr>
            <a:xfrm>
              <a:off x="166680" y="3897360"/>
              <a:ext cx="8869320" cy="2771640"/>
              <a:chOff x="166680" y="3897360"/>
              <a:chExt cx="8869320" cy="2771640"/>
            </a:xfrm>
          </p:grpSpPr>
          <p:pic>
            <p:nvPicPr>
              <p:cNvPr id="275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66680" y="3955320"/>
                <a:ext cx="4372200" cy="270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467240" y="3897360"/>
                <a:ext cx="4568760" cy="27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7" name="Скругленный прямоугольник 11"/>
          <p:cNvSpPr/>
          <p:nvPr/>
        </p:nvSpPr>
        <p:spPr>
          <a:xfrm>
            <a:off x="324000" y="3500280"/>
            <a:ext cx="158400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  <a:ea typeface="Arial"/>
              </a:rPr>
              <a:t>Финлянд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8" name="Скругленный прямоугольник 13"/>
          <p:cNvSpPr/>
          <p:nvPr/>
        </p:nvSpPr>
        <p:spPr>
          <a:xfrm>
            <a:off x="7236000" y="3357720"/>
            <a:ext cx="1728720" cy="50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  <a:ea typeface="Arial"/>
              </a:rPr>
              <a:t>Республика Коре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9" name="Скругленный прямоугольник 14"/>
          <p:cNvSpPr/>
          <p:nvPr/>
        </p:nvSpPr>
        <p:spPr>
          <a:xfrm>
            <a:off x="324000" y="981000"/>
            <a:ext cx="158400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Arial"/>
                <a:ea typeface="Arial"/>
              </a:rPr>
              <a:t>Росс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258920" y="2421000"/>
            <a:ext cx="6842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05ff6"/>
                </a:solidFill>
                <a:latin typeface="Arial"/>
              </a:rPr>
              <a:t>Что изменилось в российском образовании за последнее десятилетие с точки зрения компетентностного подхода?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менение результатов российских учащихся по читательской грамотности за период с 2000 по 2009 г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255840" y="1268280"/>
            <a:ext cx="5780160" cy="5121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116000" y="1916280"/>
            <a:ext cx="20876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05ff6"/>
                </a:solidFill>
                <a:uFillTx/>
                <a:latin typeface="Arial"/>
              </a:rPr>
              <a:t>2000 </a:t>
            </a:r>
            <a:r>
              <a:rPr b="0" lang="en-US" sz="1800" spc="-1" strike="noStrike" u="sng">
                <a:solidFill>
                  <a:srgbClr val="205ff6"/>
                </a:solidFill>
                <a:uFillTx/>
                <a:latin typeface="Wingdings 3"/>
                <a:ea typeface="Wingdings 3"/>
              </a:rPr>
              <a:t></a:t>
            </a:r>
            <a:r>
              <a:rPr b="0" lang="en-US" sz="1800" spc="-1" strike="noStrike" u="sng">
                <a:solidFill>
                  <a:srgbClr val="205ff6"/>
                </a:solidFill>
                <a:uFillTx/>
                <a:latin typeface="Arial"/>
              </a:rPr>
              <a:t>2003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езультаты ухудшилис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06880"/>
            <a:ext cx="20876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05ff6"/>
                </a:solidFill>
                <a:uFillTx/>
                <a:latin typeface="Arial"/>
              </a:rPr>
              <a:t>2003 </a:t>
            </a:r>
            <a:r>
              <a:rPr b="0" lang="en-US" sz="1800" spc="-1" strike="noStrike" u="sng">
                <a:solidFill>
                  <a:srgbClr val="205ff6"/>
                </a:solidFill>
                <a:uFillTx/>
                <a:latin typeface="Wingdings 3"/>
                <a:ea typeface="Wingdings 3"/>
              </a:rPr>
              <a:t></a:t>
            </a:r>
            <a:r>
              <a:rPr b="0" lang="en-US" sz="1800" spc="-1" strike="noStrike" u="sng">
                <a:solidFill>
                  <a:srgbClr val="205ff6"/>
                </a:solidFill>
                <a:uFillTx/>
                <a:latin typeface="Arial"/>
              </a:rPr>
              <a:t>2006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езультаты не изменилис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16000" y="4502160"/>
            <a:ext cx="20876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05ff6"/>
                </a:solidFill>
                <a:uFillTx/>
                <a:latin typeface="Arial"/>
              </a:rPr>
              <a:t>2006 </a:t>
            </a:r>
            <a:r>
              <a:rPr b="0" lang="en-US" sz="1800" spc="-1" strike="noStrike" u="sng">
                <a:solidFill>
                  <a:srgbClr val="205ff6"/>
                </a:solidFill>
                <a:uFillTx/>
                <a:latin typeface="Wingdings 3"/>
                <a:ea typeface="Wingdings 3"/>
              </a:rPr>
              <a:t></a:t>
            </a:r>
            <a:r>
              <a:rPr b="0" lang="en-US" sz="1800" spc="-1" strike="noStrike" u="sng">
                <a:solidFill>
                  <a:srgbClr val="205ff6"/>
                </a:solidFill>
                <a:uFillTx/>
                <a:latin typeface="Arial"/>
              </a:rPr>
              <a:t>2009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езультаты лучше, но…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менение результатов ряда стран за период с 2000 по 2009 г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521000" y="1271520"/>
            <a:ext cx="3263760" cy="26622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189240" cy="25988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547640" y="3860640"/>
            <a:ext cx="3283200" cy="2664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3203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менение структуры выборки российских учащихся за период с 2000 по 2009 год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727236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Изменение результатов российских учащихся с учетом образовательных программ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42920" y="1600200"/>
          <a:ext cx="7643880" cy="4525560"/>
        </p:xfrm>
        <a:graphic>
          <a:graphicData uri="http://schemas.openxmlformats.org/drawingml/2006/table">
            <a:tbl>
              <a:tblPr/>
              <a:tblGrid>
                <a:gridCol w="1416600"/>
                <a:gridCol w="1123560"/>
                <a:gridCol w="1227960"/>
                <a:gridCol w="1139040"/>
                <a:gridCol w="1242000"/>
                <a:gridCol w="1494720"/>
              </a:tblGrid>
              <a:tr h="384120"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бразова-тельная программа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663300"/>
                    </a:solidFill>
                  </a:tcPr>
                </a:tc>
                <a:tc gridSpan="2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SA-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0 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ISA-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Разница баллов между 2000 и 2009 (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SA-2009 –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ISA-2000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9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% уч-ся в выборке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редний балл (С.О.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% уч-ся в выборке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редний балл (С.О.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00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Нет данных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2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8 (38,7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7 класс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 (25,9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9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6 (18,4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5,7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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класс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(11,1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0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8 (5,6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9,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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класс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2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5 (5,8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1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5 (3,9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0,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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класс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,8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2 (5,1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,1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8 (4,1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3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класс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8 (14,3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9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2 (10,6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35,9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9360">
                      <a:solidFill>
                        <a:srgbClr val="6633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ПО, СПО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,1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3 (8,4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9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5 (9,7)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4</a:t>
                      </a:r>
                      <a:endParaRPr b="0" lang="en-US" sz="1400" spc="-1" strike="noStrike">
                        <a:solidFill>
                          <a:srgbClr val="205ff6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каком направлении следует совершенствовать российское образование? Какие средства и методы можно использовать для достижения положительного эффекта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силение компетентностного подхо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20360" cy="3252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187280" y="162864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Результаты России в международных сравнительных исследованиях качества общего образ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чет факторов, влияющих на читательскую грамот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008000" y="1268280"/>
            <a:ext cx="788508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пределение учащихся на группы в зависимости от их круга чтения и овладения учебными стратегиями работы с тексто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701352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ждународная программ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о оценке образовательных достижений учащихс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ценка способности 15-летних учащихся использовать приобретенные в школе знания и опыт для широкого диапазона жизненных задач в различных сферах человеческой деятельности, общения и социальных отношений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ельная инновационная це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009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ценка чтения электронных текстов, оценка сформированности учебных стратегий работы с текст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ая 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ценка качества и эффективности образования, равенства доступа к образовани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язь между читательской грамотностью  и особенностями чтени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889520" cy="24973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2195640" y="3884760"/>
            <a:ext cx="487836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язь между читательской грамотностью  и особенностями чтения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6327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язь между читательской грамотностью  и особенностями чтения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41672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ет факторов, характеризующих наиболее эффективные школы в формировании читательской грамот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номия школы и эффективная система подотчетности школы перед органами управления образованием, родителями и представителями общественности, открытая публикация результатов деятельности школы и итоговой аттестации выпускников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номия школы в разработке учебного плана и учебных программ, приобретении оборудования и материалов, а также определении системы оценки учебных достижений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рошая дисциплина в школе и хорошие доверительные отношения между учащимися и учителя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ет факторов, характеризующих наиболее эффективные системы образования в формировании читательской грамотност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1341000"/>
            <a:ext cx="76438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еспечение равных возможностей получения качественного образования независимо от социально-экономического статуса учащихся посредством выстраивания индивидуальных траекторий обучения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ещение учащимися системы дошкольного образования (зависимость от числа лет посещения учреждения дошкольного образования, соотношения числа детей на одного воспитателя, расходов на одного ребенка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личие независимой системы стандартизированных экзаменов, оценивающих достижение образовательных стандартов (зависимость от того, как используются результаты – только для отчетности или для оказания помощи отстающим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декватное ресурсное обеспечение школы, независимо от социально-экономического статуса школы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декватная заработная плата школьных учителей, независимо от размеров класса и др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042920" y="1600200"/>
            <a:ext cx="74167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дополнительной информаци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че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ЭС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Organization for Economic Cooperation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evelopment, OECD) 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ecd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i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стралийск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гогичес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ustralian Council for Educational Re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//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.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acer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edu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1" lang="en-AU" sz="2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au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 оценки качества общего образования ИСМО Р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.</a:t>
            </a: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centeroko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.</a:t>
            </a:r>
            <a:r>
              <a:rPr b="0" lang="en-AU" sz="2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centeroko@mail.r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кс 8-499-246-2421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валева Галина Сергеевна –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оординатор исследова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7092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ждународная программ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оценке образовательных достижений учащихс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зада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ценить функциональную грамотность 15-летних учащихся в области чтения, математики и естествозн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явить динамику  результатов (2000, 2003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2006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2009 годы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явить факторы, позволяющие объяснить различия в результатах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аны-участницы исследования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-200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08000" y="1271520"/>
            <a:ext cx="7885080" cy="3957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852720" y="47293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траны-партнеры ОЭС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4729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траны ОЭС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4840" y="5517720"/>
            <a:ext cx="7788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стран и территорий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ее 470 тысяч 15-летних учащихся, представляющих 27 млн. учащихс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16000" y="5373720"/>
            <a:ext cx="7704000" cy="0"/>
          </a:xfrm>
          <a:prstGeom prst="line">
            <a:avLst/>
          </a:prstGeom>
          <a:ln cap="rnd" w="507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истика российских участников исследования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200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 субъект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Российской Федер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10 образовательных учрежде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633 учащих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5-летнего возраста, обучавшихся по программам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основного общего образования (7-9 классы), 71%, из них учащиеся 9 класса составили 60,1%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общего среднего образования, – 24% (из них учащиеся 10 класса - 23,1%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ачального и среднего профессионального образования – 4,9%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во состояние российского образования с точки зрения международных стандартов, основанных на компетентностном подходе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856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ение читательской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амотности в исследова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S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06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Читательская грамотнос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пособность человека понимать и использовать письменные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567400" y="1257480"/>
            <a:ext cx="3382920" cy="5305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886280" y="4584600"/>
            <a:ext cx="4067280" cy="2174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стран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читательской грамот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48360" y="1382760"/>
            <a:ext cx="398520" cy="3024000"/>
          </a:xfrm>
          <a:custGeom>
            <a:avLst/>
            <a:gdLst>
              <a:gd name="textAreaLeft" fmla="*/ 254520 w 398520"/>
              <a:gd name="textAreaRight" fmla="*/ 398880 w 39852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97320" y="4479840"/>
            <a:ext cx="349560" cy="360360"/>
          </a:xfrm>
          <a:custGeom>
            <a:avLst/>
            <a:gdLst>
              <a:gd name="textAreaLeft" fmla="*/ 223560 w 349560"/>
              <a:gd name="textAreaRight" fmla="*/ 349920 w 3495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48360" y="4911840"/>
            <a:ext cx="398520" cy="1584360"/>
          </a:xfrm>
          <a:custGeom>
            <a:avLst/>
            <a:gdLst>
              <a:gd name="textAreaLeft" fmla="*/ 254520 w 398520"/>
              <a:gd name="textAreaRight" fmla="*/ 398880 w 3985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2133720"/>
            <a:ext cx="42498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Лидирующие страны и территории: Корея, Финляндия,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Шанхай (Китай), Гонконг (Китай), Сингапур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38 стран, </a:t>
            </a:r>
            <a:br>
              <a:rPr sz="1600"/>
            </a:b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средний балл которых статистически значимо </a:t>
            </a:r>
            <a:r>
              <a:rPr b="1" lang="ru-RU" sz="1600" spc="-1" strike="noStrike" u="sng">
                <a:solidFill>
                  <a:srgbClr val="205ff6"/>
                </a:solidFill>
                <a:uFillTx/>
                <a:latin typeface="Arial"/>
              </a:rPr>
              <a:t>выше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 среднего балла Росси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530064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22 страны, средний балл которых статистически значимо </a:t>
            </a:r>
            <a:r>
              <a:rPr b="1" lang="en-US" sz="1600" spc="-1" strike="noStrike" u="sng">
                <a:solidFill>
                  <a:srgbClr val="205ff6"/>
                </a:solidFill>
                <a:uFillTx/>
                <a:latin typeface="Arial"/>
              </a:rPr>
              <a:t>ниже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 среднего балла России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4292640"/>
            <a:ext cx="3960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4 страны, средний балл которых не отличается от балла России </a:t>
            </a:r>
            <a:br>
              <a:rPr sz="1600"/>
            </a:b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(Австрия, Литва, Турция, Дубай (ОАЭ))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04:58Z</dcterms:created>
  <dc:creator>master</dc:creator>
  <dc:description/>
  <dc:language>en-US</dc:language>
  <cp:lastModifiedBy>master</cp:lastModifiedBy>
  <dcterms:modified xsi:type="dcterms:W3CDTF">2010-12-07T07:07:30Z</dcterms:modified>
  <cp:revision>46</cp:revision>
  <dc:subject/>
  <dc:title>Слайд 1</dc:title>
</cp:coreProperties>
</file>