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448-3025-4EA7-B9D5-6B9739C7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6D9-0E3A-4609-AFBF-FC3DC676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908-FD58-48DF-9967-A2BC00F0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8B3-86FE-4F9C-8457-D3D7F014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CD1A-503C-4DFD-9AEB-9B36A053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A73-A301-47C0-B844-52BEC013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A31B-CF18-40FC-9798-1D229471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1A3-B858-40A0-A2F5-17738406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FEA-8BD4-4BB1-89D9-5A41703A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CF0-F55B-47B0-9505-FAA1E6C9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EC7-7D3D-4B8A-8093-FE9BBB96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DDC-5022-4DE7-8431-764705B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eeece1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457200">
              <a:spcBef>
                <a:spcPts val="799"/>
              </a:spcBef>
              <a:buClr>
                <a:srgbClr val="ffffff"/>
              </a:buClr>
              <a:buSzPct val="2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57200" indent="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57200" indent="457200">
              <a:spcBef>
                <a:spcPts val="799"/>
              </a:spcBef>
              <a:buClr>
                <a:srgbClr val="000000"/>
              </a:buClr>
              <a:buSzPct val="40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57200" indent="457200">
              <a:spcBef>
                <a:spcPts val="799"/>
              </a:spcBef>
              <a:buClr>
                <a:srgbClr val="000000"/>
              </a:buClr>
              <a:buSzPct val="40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57200" indent="457200">
              <a:spcBef>
                <a:spcPts val="799"/>
              </a:spcBef>
              <a:buClr>
                <a:srgbClr val="000000"/>
              </a:buClr>
              <a:buSzPct val="40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76F9-9624-4FDE-9BBF-43AE6E38E79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104F-434B-4FCA-BCC5-E9983B0FF4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400" spc="-1" strike="noStrike">
                <a:solidFill>
                  <a:srgbClr val="990033"/>
                </a:solidFill>
                <a:latin typeface="Cambria"/>
              </a:rPr>
              <a:t>Использование результатов государственной итоговой 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Cambria"/>
              </a:rPr>
              <a:t>аттестации в региональной 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Cambria"/>
              </a:rPr>
              <a:t>системе качества 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Cambria"/>
              </a:rPr>
              <a:t>образования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71720" y="4357800"/>
            <a:ext cx="7000560" cy="12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Республика Буря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ГБУ"РЦОИ и ОКО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ыренова В.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Группа 3"/>
          <p:cNvGrpSpPr/>
          <p:nvPr/>
        </p:nvGrpSpPr>
        <p:grpSpPr>
          <a:xfrm>
            <a:off x="214200" y="71280"/>
            <a:ext cx="8929800" cy="1000440"/>
            <a:chOff x="214200" y="71280"/>
            <a:chExt cx="8929800" cy="1000440"/>
          </a:xfrm>
        </p:grpSpPr>
        <p:sp>
          <p:nvSpPr>
            <p:cNvPr id="44" name="Скругленный прямоугольник 4"/>
            <p:cNvSpPr/>
            <p:nvPr/>
          </p:nvSpPr>
          <p:spPr>
            <a:xfrm>
              <a:off x="214200" y="71280"/>
              <a:ext cx="8787240" cy="100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4" descr=""/>
            <p:cNvPicPr/>
            <p:nvPr/>
          </p:nvPicPr>
          <p:blipFill>
            <a:blip r:embed="rId1"/>
            <a:stretch/>
          </p:blipFill>
          <p:spPr>
            <a:xfrm>
              <a:off x="492840" y="214200"/>
              <a:ext cx="150696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Прямоугольник 6"/>
            <p:cNvSpPr/>
            <p:nvPr/>
          </p:nvSpPr>
          <p:spPr>
            <a:xfrm>
              <a:off x="2000160" y="214200"/>
              <a:ext cx="714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ГБУ «Региональный центр обработки информации и оценки качества образования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7"/>
          <p:cNvGrpSpPr/>
          <p:nvPr/>
        </p:nvGrpSpPr>
        <p:grpSpPr>
          <a:xfrm>
            <a:off x="214200" y="71280"/>
            <a:ext cx="8929800" cy="1000440"/>
            <a:chOff x="214200" y="71280"/>
            <a:chExt cx="8929800" cy="1000440"/>
          </a:xfrm>
        </p:grpSpPr>
        <p:sp>
          <p:nvSpPr>
            <p:cNvPr id="48" name="Скругленный прямоугольник 8"/>
            <p:cNvSpPr/>
            <p:nvPr/>
          </p:nvSpPr>
          <p:spPr>
            <a:xfrm>
              <a:off x="214200" y="71280"/>
              <a:ext cx="8787240" cy="100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4" descr=""/>
            <p:cNvPicPr/>
            <p:nvPr/>
          </p:nvPicPr>
          <p:blipFill>
            <a:blip r:embed="rId1"/>
            <a:stretch/>
          </p:blipFill>
          <p:spPr>
            <a:xfrm>
              <a:off x="492840" y="214200"/>
              <a:ext cx="150696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Прямоугольник 10"/>
            <p:cNvSpPr/>
            <p:nvPr/>
          </p:nvSpPr>
          <p:spPr>
            <a:xfrm>
              <a:off x="2000160" y="214200"/>
              <a:ext cx="714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ГБУ «Региональный центр обработки информации и оценки качества образования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01680" y="1179360"/>
            <a:ext cx="862308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Анализ результатов ГИА как самостоятельного объекта исследования позволяет решать практически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Общий качественный анализ результатов выпускников текущего года позволяет сформировать методические рекомендации по некоторым аспектам совершенствования преподавания общеобразовательных предметов в реги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Анализ работы экспертов по проверке экзаменационных работ позволяет внести изменения в программу подготовки экспертов для повышения качества работы предметной комиссии, а так же служит основой для принятия управленческих решений при формировании составов предметных комиссий на следующий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6360" y="5700600"/>
            <a:ext cx="864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Позволяет совершенствовать систему оценки качества образования региона, выявить слабые западающие предметы для проведения региональных мониторинговых исслед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358120" cy="51451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"/>
          <p:cNvPicPr/>
          <p:nvPr/>
        </p:nvPicPr>
        <p:blipFill>
          <a:blip r:embed="rId2"/>
          <a:stretch/>
        </p:blipFill>
        <p:spPr>
          <a:xfrm>
            <a:off x="20520" y="34920"/>
            <a:ext cx="89805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1"/>
          <p:cNvGrpSpPr/>
          <p:nvPr/>
        </p:nvGrpSpPr>
        <p:grpSpPr>
          <a:xfrm>
            <a:off x="214200" y="71280"/>
            <a:ext cx="8929800" cy="1000440"/>
            <a:chOff x="214200" y="71280"/>
            <a:chExt cx="8929800" cy="1000440"/>
          </a:xfrm>
        </p:grpSpPr>
        <p:sp>
          <p:nvSpPr>
            <p:cNvPr id="56" name="Скругленный прямоугольник 2"/>
            <p:cNvSpPr/>
            <p:nvPr/>
          </p:nvSpPr>
          <p:spPr>
            <a:xfrm>
              <a:off x="214200" y="71280"/>
              <a:ext cx="8787240" cy="100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4" descr=""/>
            <p:cNvPicPr/>
            <p:nvPr/>
          </p:nvPicPr>
          <p:blipFill>
            <a:blip r:embed="rId1"/>
            <a:stretch/>
          </p:blipFill>
          <p:spPr>
            <a:xfrm>
              <a:off x="492840" y="214200"/>
              <a:ext cx="150696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Прямоугольник 4"/>
            <p:cNvSpPr/>
            <p:nvPr/>
          </p:nvSpPr>
          <p:spPr>
            <a:xfrm>
              <a:off x="2000160" y="214200"/>
              <a:ext cx="714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ГБУ «Региональный центр обработки информации и оценки качества образования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Прямоугольник 8"/>
          <p:cNvSpPr/>
          <p:nvPr/>
        </p:nvSpPr>
        <p:spPr>
          <a:xfrm>
            <a:off x="1499760" y="107172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ациональные исследования качества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2640" y="1928880"/>
            <a:ext cx="836640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222"/>
                </a:solidFill>
                <a:latin typeface="Arial"/>
                <a:ea typeface="宋体"/>
              </a:rPr>
              <a:t>2016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222"/>
                </a:solidFill>
                <a:latin typeface="Arial"/>
                <a:ea typeface="宋体"/>
              </a:rPr>
              <a:t>октябрь ноябр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222"/>
                </a:solidFill>
                <a:latin typeface="Arial"/>
                <a:ea typeface="宋体"/>
              </a:rPr>
              <a:t>иностранные языки 5,8 клас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222"/>
                </a:solidFill>
                <a:latin typeface="Arial"/>
                <a:ea typeface="宋体"/>
              </a:rPr>
              <a:t>2017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222"/>
                </a:solidFill>
                <a:latin typeface="Arial"/>
                <a:ea typeface="宋体"/>
              </a:rPr>
              <a:t>апр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222"/>
                </a:solidFill>
                <a:latin typeface="Arial"/>
                <a:ea typeface="宋体"/>
              </a:rPr>
              <a:t>ОБЖ 9,8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222"/>
                </a:solidFill>
                <a:latin typeface="Arial"/>
                <a:ea typeface="宋体"/>
              </a:rPr>
              <a:t>октябр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222"/>
                </a:solidFill>
                <a:latin typeface="Arial"/>
                <a:ea typeface="宋体"/>
              </a:rPr>
              <a:t>химия биология 10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1"/>
          <p:cNvGrpSpPr/>
          <p:nvPr/>
        </p:nvGrpSpPr>
        <p:grpSpPr>
          <a:xfrm>
            <a:off x="214200" y="71280"/>
            <a:ext cx="8929800" cy="1000440"/>
            <a:chOff x="214200" y="71280"/>
            <a:chExt cx="8929800" cy="1000440"/>
          </a:xfrm>
        </p:grpSpPr>
        <p:sp>
          <p:nvSpPr>
            <p:cNvPr id="62" name="Скругленный прямоугольник 2"/>
            <p:cNvSpPr/>
            <p:nvPr/>
          </p:nvSpPr>
          <p:spPr>
            <a:xfrm>
              <a:off x="214200" y="71280"/>
              <a:ext cx="8787240" cy="100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4" descr=""/>
            <p:cNvPicPr/>
            <p:nvPr/>
          </p:nvPicPr>
          <p:blipFill>
            <a:blip r:embed="rId1"/>
            <a:stretch/>
          </p:blipFill>
          <p:spPr>
            <a:xfrm>
              <a:off x="492840" y="214200"/>
              <a:ext cx="150696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Прямоугольник 4"/>
            <p:cNvSpPr/>
            <p:nvPr/>
          </p:nvSpPr>
          <p:spPr>
            <a:xfrm>
              <a:off x="2000160" y="214200"/>
              <a:ext cx="714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ГБУ «Региональный центр обработки информации и оценки качества образования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Прямоугольник 8"/>
          <p:cNvSpPr/>
          <p:nvPr/>
        </p:nvSpPr>
        <p:spPr>
          <a:xfrm>
            <a:off x="1595880" y="107172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Всероссийские провероч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571680" y="1714680"/>
            <a:ext cx="8001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41320" y="1892160"/>
            <a:ext cx="78264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222"/>
                </a:solidFill>
                <a:latin typeface="Arial"/>
                <a:ea typeface="宋体"/>
              </a:rPr>
              <a:t>2017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222"/>
                </a:solidFill>
                <a:latin typeface="Arial"/>
                <a:ea typeface="宋体"/>
              </a:rPr>
              <a:t>апрель-м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222"/>
                </a:solidFill>
                <a:latin typeface="Arial"/>
                <a:ea typeface="宋体"/>
              </a:rPr>
              <a:t>русский язык, математика 4,5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222"/>
                </a:solidFill>
                <a:latin typeface="Arial"/>
                <a:ea typeface="宋体"/>
              </a:rPr>
              <a:t>окружающий мир 4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222"/>
                </a:solidFill>
                <a:latin typeface="Arial"/>
                <a:ea typeface="宋体"/>
              </a:rPr>
              <a:t>история, биология 5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Группа 2"/>
          <p:cNvGrpSpPr/>
          <p:nvPr/>
        </p:nvGrpSpPr>
        <p:grpSpPr>
          <a:xfrm>
            <a:off x="214200" y="71280"/>
            <a:ext cx="8929800" cy="1000440"/>
            <a:chOff x="214200" y="71280"/>
            <a:chExt cx="8929800" cy="1000440"/>
          </a:xfrm>
        </p:grpSpPr>
        <p:sp>
          <p:nvSpPr>
            <p:cNvPr id="69" name="Скругленный прямоугольник 3"/>
            <p:cNvSpPr/>
            <p:nvPr/>
          </p:nvSpPr>
          <p:spPr>
            <a:xfrm>
              <a:off x="214200" y="71280"/>
              <a:ext cx="8787240" cy="100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492840" y="214200"/>
              <a:ext cx="150696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Прямоугольник 5"/>
            <p:cNvSpPr/>
            <p:nvPr/>
          </p:nvSpPr>
          <p:spPr>
            <a:xfrm>
              <a:off x="2000160" y="214200"/>
              <a:ext cx="714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ГБУ «Региональный центр обработки информации и оценки качества образования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Прямоугольник 7"/>
          <p:cNvSpPr/>
          <p:nvPr/>
        </p:nvSpPr>
        <p:spPr>
          <a:xfrm>
            <a:off x="447840" y="2286000"/>
            <a:ext cx="826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ОРФО-9 – программа повышения орфографической грамотности учащихся 9-х класс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г. Екатеринбург (в течении 2015-16 учебного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ФО 9 - региональный мониторинг ( апробация март 20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216080"/>
            <a:ext cx="81471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222"/>
                </a:solidFill>
                <a:latin typeface="Arial"/>
                <a:ea typeface="宋体"/>
              </a:rPr>
              <a:t>Исследования проведенные в 2015-16 учеб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447840" y="4170240"/>
            <a:ext cx="82594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ОРФО-9 – программа повышения орфографической грамотности учащихся 9-х класс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г. Екатеринбург (в течении 2016-17 учебного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ФО 9 - региональный мониторинг ( апрель 20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зика 9 класс ( октябрь 2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тематика, метапредметные исследования 6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8240" y="3603600"/>
            <a:ext cx="6673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222"/>
                </a:solidFill>
                <a:latin typeface="Arial"/>
                <a:ea typeface="宋体"/>
              </a:rPr>
              <a:t>2016-17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Группа 2"/>
          <p:cNvGrpSpPr/>
          <p:nvPr/>
        </p:nvGrpSpPr>
        <p:grpSpPr>
          <a:xfrm>
            <a:off x="214200" y="71280"/>
            <a:ext cx="8929800" cy="1000440"/>
            <a:chOff x="214200" y="71280"/>
            <a:chExt cx="8929800" cy="1000440"/>
          </a:xfrm>
        </p:grpSpPr>
        <p:sp>
          <p:nvSpPr>
            <p:cNvPr id="77" name="Скругленный прямоугольник 2"/>
            <p:cNvSpPr/>
            <p:nvPr/>
          </p:nvSpPr>
          <p:spPr>
            <a:xfrm>
              <a:off x="214200" y="71280"/>
              <a:ext cx="8787240" cy="100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4" descr=""/>
            <p:cNvPicPr/>
            <p:nvPr/>
          </p:nvPicPr>
          <p:blipFill>
            <a:blip r:embed="rId1"/>
            <a:stretch/>
          </p:blipFill>
          <p:spPr>
            <a:xfrm>
              <a:off x="492840" y="214200"/>
              <a:ext cx="150696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Прямоугольник 4"/>
            <p:cNvSpPr/>
            <p:nvPr/>
          </p:nvSpPr>
          <p:spPr>
            <a:xfrm>
              <a:off x="2000160" y="214200"/>
              <a:ext cx="714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ГБУ «Региональный центр обработки информации и оценки качества образования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Box 5"/>
          <p:cNvSpPr/>
          <p:nvPr/>
        </p:nvSpPr>
        <p:spPr>
          <a:xfrm>
            <a:off x="1000080" y="1857240"/>
            <a:ext cx="721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8T04:36:06Z</dcterms:created>
  <dc:creator>Михаил Клиновский</dc:creator>
  <dc:description/>
  <dc:language>en-US</dc:language>
  <cp:lastModifiedBy>iPad User</cp:lastModifiedBy>
  <dcterms:modified xsi:type="dcterms:W3CDTF">2016-07-08T06:05:53Z</dcterms:modified>
  <cp:revision>126</cp:revision>
  <dc:subject/>
  <dc:title>Государственная итоговая аттестация – основные итоги 2015 года и направления развития на 2016 год в Республике Бур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5.1.0</vt:lpwstr>
  </property>
</Properties>
</file>