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0B2-2D0D-478B-AC1C-365EE6E1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461-3944-4C14-9ED9-29B95AF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1C9-EEA4-480B-83FA-3CC66A64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87F-0BBC-4791-B3F4-412E1A53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364-606D-4714-94AB-124506D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AD4-DE38-4BDA-A72E-902A76D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C5F-6EA7-45FE-978C-1439517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64B-955D-4377-B261-6702C4B7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4D8-F5AA-4F3C-B248-22893862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FE9-1FD2-40CE-AFD2-426B762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58B-497D-47AA-B945-7EB7379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23A-7164-4C60-9D2C-D019CDB1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dca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0760" y="5784840"/>
            <a:ext cx="379872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4680" y="5791320"/>
            <a:ext cx="340200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>
            <a:off x="-7920" y="5788080"/>
            <a:ext cx="340524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951-DD4F-4393-AFD0-0774EECF51B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1BB-590F-4D23-9671-6A6DC6C13B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1"/>
          <p:cNvGrpSpPr/>
          <p:nvPr/>
        </p:nvGrpSpPr>
        <p:grpSpPr>
          <a:xfrm>
            <a:off x="-1440" y="4952880"/>
            <a:ext cx="9145440" cy="1911600"/>
            <a:chOff x="-1440" y="4952880"/>
            <a:chExt cx="9145440" cy="1911600"/>
          </a:xfrm>
        </p:grpSpPr>
        <p:sp>
          <p:nvSpPr>
            <p:cNvPr id="47" name="Полилиния 6"/>
            <p:cNvSpPr/>
            <p:nvPr/>
          </p:nvSpPr>
          <p:spPr>
            <a:xfrm>
              <a:off x="1689120" y="4952880"/>
              <a:ext cx="7454880" cy="487800"/>
            </a:xfrm>
            <a:prstGeom prst="pie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олилиния 7"/>
            <p:cNvSpPr/>
            <p:nvPr/>
          </p:nvSpPr>
          <p:spPr>
            <a:xfrm>
              <a:off x="37440" y="5237280"/>
              <a:ext cx="9106560" cy="78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олилиния 10"/>
            <p:cNvSpPr/>
            <p:nvPr/>
          </p:nvSpPr>
          <p:spPr>
            <a:xfrm>
              <a:off x="2160" y="5000760"/>
              <a:ext cx="9141840" cy="1863720"/>
            </a:xfrm>
            <a:prstGeom prst="pie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11"/>
            <p:cNvSpPr/>
            <p:nvPr/>
          </p:nvSpPr>
          <p:spPr>
            <a:xfrm>
              <a:off x="-1440" y="4997520"/>
              <a:ext cx="914544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480" y="1752120"/>
            <a:ext cx="852156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Lucida Sans Unicode"/>
              </a:rPr>
              <a:t>Вопросы использования            информационных технологий   </a:t>
            </a:r>
            <a:endParaRPr b="1" lang="en-US" sz="40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464646"/>
                </a:solidFill>
                <a:latin typeface="Lucida Sans Unicode"/>
              </a:rPr>
              <a:t>Чимитова Эржэна Эрдынеев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Республика Бурят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User\YandexDisk-dlyavpr.3\Скриншоты\2016-03-15 20-16-48 Скриншот экрана.png"/>
          <p:cNvPicPr/>
          <p:nvPr/>
        </p:nvPicPr>
        <p:blipFill>
          <a:blip r:embed="rId1"/>
          <a:stretch/>
        </p:blipFill>
        <p:spPr>
          <a:xfrm>
            <a:off x="285840" y="642960"/>
            <a:ext cx="8429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08880" y="14436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Шкала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User\YandexDisk-dlyavpr.3\Скриншоты\2016-03-15 20-26-07 Скриншот экрана.png"/>
          <p:cNvPicPr/>
          <p:nvPr/>
        </p:nvPicPr>
        <p:blipFill>
          <a:blip r:embed="rId1"/>
          <a:stretch/>
        </p:blipFill>
        <p:spPr>
          <a:xfrm>
            <a:off x="1571760" y="785880"/>
            <a:ext cx="6076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285920" y="5493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  <a:ea typeface="ＭＳ Ｐゴシック"/>
              </a:rPr>
              <a:t>Отчет «Решаемость зада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User\YandexDisk-dlyavpr.3\Скриншоты\2016-03-15 20-28-11 Скриншот экрана.png"/>
          <p:cNvPicPr/>
          <p:nvPr/>
        </p:nvPicPr>
        <p:blipFill>
          <a:blip r:embed="rId1"/>
          <a:stretch/>
        </p:blipFill>
        <p:spPr>
          <a:xfrm>
            <a:off x="101520" y="1500120"/>
            <a:ext cx="8971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71680" y="1585800"/>
            <a:ext cx="82152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Требования к скорости интернет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менее 3Мбит/сек в ОО с количеством учащихся менее 1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 менее 5 Мбит/сек в ОО с количеством учащихся более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74480" y="2786040"/>
            <a:ext cx="825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Lucida Sans Unicode"/>
                <a:ea typeface="ＭＳ Ｐゴシック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714240" y="1041120"/>
            <a:ext cx="7643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Основные возможности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конструирование заданий в тестовой форме (открытой, закрытой, на соответствие, на установление последова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организация внешней экспертизы тестовы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атистических отч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формирование неограниченного числа банков тестовых заданий различной структуры и содержания, в том числе с вложенной структурой и различной балльной стоимостью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расширенные функции для визуализации результатов тестирования на уровне одного учащегося, класса, образовательной организации, района, региона в це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отслеживание динамик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тестирования через Internet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8760" y="158040"/>
            <a:ext cx="7500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Особенност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Работа с любым количеством изображений, формул и мультимедийных компонент в вопроса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Гибкие и перенастраиваемые параметры тестирова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Наличие модуля для оценки динамики результатов тестирования в разрезе класса, школы, района, региона, предмета и построения диаграм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модуля для создания шкалы 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функционала «Веера отве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проведение адаптивного тестирования по «жесткому» алгорит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357200" y="374256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й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еленные пун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ьзоват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ы предметов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38120" y="3429360"/>
            <a:ext cx="76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В Системе предусмотрено ведение следующих справоч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s://encrypted-tbn0.gstatic.com/images?q=tbn:ANd9GcQI4qzlv3_aM9eThHjypAJKXH9TQ8IukLEAO_wV6DH-E6e6Kmwf"/>
          <p:cNvPicPr/>
          <p:nvPr/>
        </p:nvPicPr>
        <p:blipFill>
          <a:blip r:embed="rId1"/>
          <a:stretch/>
        </p:blipFill>
        <p:spPr>
          <a:xfrm>
            <a:off x="5286240" y="3857760"/>
            <a:ext cx="21812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714240" y="571680"/>
            <a:ext cx="60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  <a:ea typeface="ＭＳ Ｐゴシック"/>
              </a:rPr>
              <a:t>Внешняя экспертиза те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YandexDisk-dlyavpr.3\Скриншоты\2016-03-15 20-01-31 Скриншот экрана.png"/>
          <p:cNvPicPr/>
          <p:nvPr/>
        </p:nvPicPr>
        <p:blipFill>
          <a:blip r:embed="rId1"/>
          <a:stretch/>
        </p:blipFill>
        <p:spPr>
          <a:xfrm>
            <a:off x="142920" y="1714680"/>
            <a:ext cx="878688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YandexDisk-dlyavpr.3\Скриншоты\2016-03-15 20-02-48 Скриншот экрана.png"/>
          <p:cNvPicPr/>
          <p:nvPr/>
        </p:nvPicPr>
        <p:blipFill>
          <a:blip r:embed="rId1"/>
          <a:stretch/>
        </p:blipFill>
        <p:spPr>
          <a:xfrm>
            <a:off x="714240" y="2435400"/>
            <a:ext cx="7450200" cy="220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714240" y="64944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овещение отправляется системой по электронной почте всем экспертам данной группы о необходимости провести оценку выбранной группы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85840" y="285840"/>
            <a:ext cx="857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Каждое задание содержит формулировку вопроса и ответы с указанием правильного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Эксперту необходимо указать под каждым вопросом признак корректности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или некорректности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задания и, по желанию, оставить коммента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User\YandexDisk-dlyavpr.3\Скриншоты\2016-03-15 20-05-12 Скриншот экрана.png"/>
          <p:cNvPicPr/>
          <p:nvPr/>
        </p:nvPicPr>
        <p:blipFill>
          <a:blip r:embed="rId1"/>
          <a:stretch/>
        </p:blipFill>
        <p:spPr>
          <a:xfrm>
            <a:off x="0" y="1714680"/>
            <a:ext cx="91584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788920" y="430200"/>
            <a:ext cx="362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рохождение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YandexDisk-dlyavpr.3\Скриншоты\2016-03-15 20-14-00 Скриншот экрана.png"/>
          <p:cNvPicPr/>
          <p:nvPr/>
        </p:nvPicPr>
        <p:blipFill>
          <a:blip r:embed="rId1"/>
          <a:stretch/>
        </p:blipFill>
        <p:spPr>
          <a:xfrm>
            <a:off x="428760" y="853920"/>
            <a:ext cx="8001000" cy="3646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57120" y="400896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сключения возможности прохождения зачетного теста вне класса генерируются пароли и логины на тест, также назначается дата начала и окончания теста. Администраторы программы отправляют пароли и логины на тесты классным руков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YandexDisk-dlyavpr.3\Скриншоты\2016-03-15 20-14-47 Скриншот экрана.png"/>
          <p:cNvPicPr/>
          <p:nvPr/>
        </p:nvPicPr>
        <p:blipFill>
          <a:blip r:embed="rId1"/>
          <a:stretch/>
        </p:blipFill>
        <p:spPr>
          <a:xfrm>
            <a:off x="571680" y="285840"/>
            <a:ext cx="799128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YandexDisk-dlyavpr.3\Скриншоты\2016-03-15 20-15-27 Скриншот экрана.png"/>
          <p:cNvPicPr/>
          <p:nvPr/>
        </p:nvPicPr>
        <p:blipFill>
          <a:blip r:embed="rId2"/>
          <a:stretch/>
        </p:blipFill>
        <p:spPr>
          <a:xfrm>
            <a:off x="714240" y="2286000"/>
            <a:ext cx="7705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YandexDisk-dlyavpr.3\Скриншоты\2016-03-15 20-16-04 Скриншот экрана.png"/>
          <p:cNvPicPr/>
          <p:nvPr/>
        </p:nvPicPr>
        <p:blipFill>
          <a:blip r:embed="rId1"/>
          <a:stretch/>
        </p:blipFill>
        <p:spPr>
          <a:xfrm>
            <a:off x="500040" y="785880"/>
            <a:ext cx="7861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08:26:00Z</dcterms:created>
  <dc:creator>User</dc:creator>
  <dc:description/>
  <dc:language>en-US</dc:language>
  <cp:lastModifiedBy>iPad User</cp:lastModifiedBy>
  <dcterms:modified xsi:type="dcterms:W3CDTF">2016-07-08T06:24:37Z</dcterms:modified>
  <cp:revision>16</cp:revision>
  <dc:subject/>
  <dc:title>Информационные технологии в оценке качества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5.1.0</vt:lpwstr>
  </property>
</Properties>
</file>