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6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7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8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5FF6-A1D6-47A9-98B3-A93DE91570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4C7C-2E80-4426-88DF-B3564D98E9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9360" y="4724280"/>
            <a:ext cx="4994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023-12A4-4F9A-81C0-D24503364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B446-1FCD-4C3D-A544-5619979E7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41D2-EBD6-418C-9C5B-5DA458D3E2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D46A-0D08-4426-8780-0302A716CC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A01-1508-482F-A685-D6370A8EF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81A-F155-4375-961C-EF8A496F02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6675-1116-49AB-B30C-8C35299183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F55-571C-4FD5-90F1-CF64D9CA03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BDCC-C9BB-4D40-AAD0-A42440F1C8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14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B030-967A-48C3-B74D-26092DD629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D04D-27CB-4D82-8BE5-E210538E2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2354-3A53-4E62-BCFC-059912792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1653-C30C-4F43-A33C-DE8AA6563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DB6E-A7A7-4246-8A48-D9E6E0BF4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39823-AF8C-4857-B3DA-28552A2B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07BBB-E268-4CA3-AF6C-7795BCE6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0B15C-BF6E-43C7-8C3D-6F91265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19135-557A-4AF6-8572-76FCA205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EF285-BA4A-4189-BF4A-C2302FC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FB26F-5337-447A-908F-B7A9BF12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51C0E-A714-475F-A225-E685202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9395-C5E1-4886-B55D-DF419C525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0148E-F457-40E0-B859-FD21EFBC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C921E-DFDE-47AB-8893-96B1C9B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13336-4FD3-4FDD-992E-34067A4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6D8D-08A8-4498-9580-2C3AF057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7B1B7-42CB-4ACC-8BAA-991FD97E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CB074-0EB7-4483-AB81-C590476D86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170E-D193-4CC2-9BA2-48D0631818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32A19-20B8-43E0-9443-19003B0A6F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3D6A0-493C-40CD-BB56-C2C85A7A7B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E1E59-3F98-42EF-A519-2B1824FC6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AE95-6679-482F-8D7F-F8D65DEC26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2C29-A984-42E3-BD6D-251CAB65F8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AC8B-7DB3-4A0F-A77D-CBBBFEDA38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E4589-B7CA-45C2-9BE5-2EB8E3AA1B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18578-E5BD-4CE4-92E7-3E73D9FB95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D74AE-1392-4475-9562-25C8AB3A7E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11BE-1EA0-4B44-9E04-0C2EED32E2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C4DF0-86C2-43E4-A1DF-2EF2277B5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23BC-FFDE-42F9-BDF5-B13FABE20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BEEA-1EC1-4A2A-8057-DEEBA8132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582E-7884-4293-B41E-984BCBF3A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5BB4-82A2-42AB-99C2-92381F165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61A2-DC69-4708-A305-BA652A5F1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8B80-0B20-4E1D-8C83-2D75469D5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956720" y="6632640"/>
            <a:ext cx="1187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</a:t>
            </a:r>
            <a:fld id="{9EA3D4A3-6665-46B4-976B-2D92927F540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3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2" name="Picture 11" descr=""/>
            <p:cNvPicPr/>
            <p:nvPr/>
          </p:nvPicPr>
          <p:blipFill>
            <a:blip r:embed="rId3"/>
            <a:srcRect l="0" t="1128" r="0" b="0"/>
            <a:stretch/>
          </p:blipFill>
          <p:spPr>
            <a:xfrm>
              <a:off x="0" y="0"/>
              <a:ext cx="914400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2"/>
            <p:cNvSpPr/>
            <p:nvPr/>
          </p:nvSpPr>
          <p:spPr>
            <a:xfrm>
              <a:off x="2987640" y="0"/>
              <a:ext cx="6156360" cy="981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018-DB26-4297-955C-1045029C7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Num" idx="5"/>
          </p:nvPr>
        </p:nvSpPr>
        <p:spPr>
          <a:xfrm>
            <a:off x="7956720" y="6632640"/>
            <a:ext cx="1187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</a:t>
            </a:r>
            <a:fld id="{08E4DD4D-F044-483D-8926-4FE6B6EAE55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3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83" name="Picture 11" descr=""/>
            <p:cNvPicPr/>
            <p:nvPr/>
          </p:nvPicPr>
          <p:blipFill>
            <a:blip r:embed="rId3"/>
            <a:srcRect l="0" t="1128" r="0" b="0"/>
            <a:stretch/>
          </p:blipFill>
          <p:spPr>
            <a:xfrm>
              <a:off x="0" y="0"/>
              <a:ext cx="914400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2"/>
            <p:cNvSpPr/>
            <p:nvPr/>
          </p:nvSpPr>
          <p:spPr>
            <a:xfrm>
              <a:off x="2987640" y="0"/>
              <a:ext cx="6156360" cy="981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270320" y="549360"/>
            <a:ext cx="489744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Министер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разования и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амар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Флаг области"/>
          <p:cNvPicPr/>
          <p:nvPr/>
        </p:nvPicPr>
        <p:blipFill>
          <a:blip r:embed="rId1"/>
          <a:stretch/>
        </p:blipFill>
        <p:spPr>
          <a:xfrm>
            <a:off x="179280" y="260280"/>
            <a:ext cx="3240360" cy="2162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0" y="2712960"/>
            <a:ext cx="9180360" cy="2573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Использование результа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сероссийских проверочных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и региональных контрольных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 управлении качеством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611600" y="5321160"/>
            <a:ext cx="45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акулина Светлана Юр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3059280" y="189000"/>
            <a:ext cx="58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егиональная контро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 физике в 10 классах (апрель 20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285840" y="1357200"/>
            <a:ext cx="45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частники РК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десятиклассники, планирующие сдавать ЕГЭ по физике в 2017 году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33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ел.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9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3780000" y="227664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заданий Р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Диаграмма 6" descr=""/>
          <p:cNvPicPr/>
          <p:nvPr/>
        </p:nvPicPr>
        <p:blipFill>
          <a:blip r:embed="rId1"/>
          <a:stretch/>
        </p:blipFill>
        <p:spPr>
          <a:xfrm>
            <a:off x="1695600" y="2706840"/>
            <a:ext cx="69307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2786040" y="0"/>
            <a:ext cx="63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пыт реализации 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ных на повышение резуль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учающихся по физ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4824360" y="3286080"/>
            <a:ext cx="4319640" cy="30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Повышение  квалификации педагогов, преподающих предмет «Физ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Внедрение новых курсов повышения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Внесение  корректив в практико-ориентированную часть рабочи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Применение нетрадиционных форм развития кадров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Мониторинговые исследования факторов, влияющих на выбор профессии выпускниками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Региональные контрольные работы по физ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0" y="3929040"/>
            <a:ext cx="46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Доля учащихся, не преодолевших минимальный порог по предм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«Ф И З И К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9"/>
          <p:cNvSpPr/>
          <p:nvPr/>
        </p:nvSpPr>
        <p:spPr>
          <a:xfrm>
            <a:off x="285840" y="1143000"/>
            <a:ext cx="43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Доля учащихся, выбирающих ЕГ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о предмету «Ф И З И К 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8"/>
          <p:cNvSpPr/>
          <p:nvPr/>
        </p:nvSpPr>
        <p:spPr>
          <a:xfrm>
            <a:off x="5143680" y="1357200"/>
            <a:ext cx="3714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4774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– количество бюджетных мест в вузах Самарской области на специальности, для которых физика является предметом вступительных испыт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(55% </a:t>
            </a:r>
            <a:r>
              <a:rPr b="1" lang="ru-RU" sz="1000" spc="-1" strike="noStrike">
                <a:solidFill>
                  <a:srgbClr val="002060"/>
                </a:solidFill>
                <a:latin typeface="Arial"/>
              </a:rPr>
              <a:t>от общего количества бюджетных мес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4709 </a:t>
            </a: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– количество участников Самарской области, сдавших в 2016 году ЕГЭ по физ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Диаграмма 9" descr=""/>
          <p:cNvPicPr/>
          <p:nvPr/>
        </p:nvPicPr>
        <p:blipFill>
          <a:blip r:embed="rId1"/>
          <a:stretch/>
        </p:blipFill>
        <p:spPr>
          <a:xfrm>
            <a:off x="139680" y="1500120"/>
            <a:ext cx="4572000" cy="2498760"/>
          </a:xfrm>
          <a:prstGeom prst="rect">
            <a:avLst/>
          </a:prstGeom>
          <a:ln w="0">
            <a:noFill/>
          </a:ln>
        </p:spPr>
      </p:pic>
      <p:pic>
        <p:nvPicPr>
          <p:cNvPr id="209" name="Диаграмма 8" descr=""/>
          <p:cNvPicPr/>
          <p:nvPr/>
        </p:nvPicPr>
        <p:blipFill>
          <a:blip r:embed="rId2"/>
          <a:stretch/>
        </p:blipFill>
        <p:spPr>
          <a:xfrm>
            <a:off x="0" y="4657680"/>
            <a:ext cx="48578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Диаграмма 6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83600" cy="4645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1072080"/>
            <a:ext cx="9036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Количество обучающихся 4 классов Самарской области, принимавших участи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в апробации Всероссийских проверочных рабо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059280" y="189000"/>
            <a:ext cx="58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сероссийские провероч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Диаграмма 4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50428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Диаграмма 5" descr=""/>
          <p:cNvPicPr/>
          <p:nvPr/>
        </p:nvPicPr>
        <p:blipFill>
          <a:blip r:embed="rId2"/>
          <a:stretch/>
        </p:blipFill>
        <p:spPr>
          <a:xfrm>
            <a:off x="360360" y="4211640"/>
            <a:ext cx="8643960" cy="24336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6"/>
          <p:cNvSpPr/>
          <p:nvPr/>
        </p:nvSpPr>
        <p:spPr>
          <a:xfrm>
            <a:off x="285840" y="11430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спределение оценок по русскому языку и математике 2015 г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модель 1) 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285840" y="371484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спределение групп баллов по русскому языку и математике 2015 г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модель 2) 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3059280" y="189000"/>
            <a:ext cx="58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сероссийские провероч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2928960" y="14292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зультаты провероч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 математике (2015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142920" y="12142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оценок по ТУ МОиН Самарской области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Диаграмма 4" descr=""/>
          <p:cNvPicPr/>
          <p:nvPr/>
        </p:nvPicPr>
        <p:blipFill>
          <a:blip r:embed="rId1"/>
          <a:stretch/>
        </p:blipFill>
        <p:spPr>
          <a:xfrm>
            <a:off x="573120" y="1646280"/>
            <a:ext cx="82850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3"/>
          <p:cNvSpPr/>
          <p:nvPr/>
        </p:nvSpPr>
        <p:spPr>
          <a:xfrm>
            <a:off x="3059280" y="189000"/>
            <a:ext cx="58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сероссийские провероч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85880" y="1214280"/>
          <a:ext cx="7786800" cy="28908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28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зультаты выполнения геометрических зада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4" name="Диаграмма 7" descr=""/>
          <p:cNvPicPr/>
          <p:nvPr/>
        </p:nvPicPr>
        <p:blipFill>
          <a:blip r:embed="rId2"/>
          <a:stretch/>
        </p:blipFill>
        <p:spPr>
          <a:xfrm>
            <a:off x="500040" y="1712880"/>
            <a:ext cx="8217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059280" y="189000"/>
            <a:ext cx="58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сероссийские провероч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Диаграмма 4" descr=""/>
          <p:cNvPicPr/>
          <p:nvPr/>
        </p:nvPicPr>
        <p:blipFill>
          <a:blip r:embed="rId1"/>
          <a:stretch/>
        </p:blipFill>
        <p:spPr>
          <a:xfrm>
            <a:off x="353880" y="2000160"/>
            <a:ext cx="8577360" cy="443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357120" y="1214280"/>
          <a:ext cx="8501040" cy="69084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690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оля обучающихся, получивших соответствующие оценк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русскому языку, математике и окружающему миру 2016 г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6760" y="1356840"/>
            <a:ext cx="835812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ВПР на уровне региона, территориального управления, школы, 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совещания, семинары, круглые столы с участием методистов, администрации ОО, педагогов (на всех уровнях), родительские собр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результатов ВПР 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ъезде учителей математики Самарской области, проведенного в рамках реализации Концепции развития математического образования,        и на Координационном совете учебно-методических объединений в системе общего образования Самар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етодических рекомендаций, в том числе включающих рекомендации по корректировке основной общеобразовательной программы основного общего образования, рабочих программ по предметам, учебного плана, пересмотр предварительного комплектования педагогических                                                                        кадров для 5 кла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изменений в программу повышения                                                                                    квалификации учителей начальных классов                                                                                                                                         и основной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2928960" y="2142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 итогам Всероссийских проверочных работ -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http://ysia.ru/wp-content/uploads/2016/05/vseross-prov-rabjpg.jpg"/>
          <p:cNvPicPr/>
          <p:nvPr/>
        </p:nvPicPr>
        <p:blipFill>
          <a:blip r:embed="rId1"/>
          <a:stretch/>
        </p:blipFill>
        <p:spPr>
          <a:xfrm>
            <a:off x="5857920" y="485784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3"/>
          <p:cNvSpPr/>
          <p:nvPr/>
        </p:nvSpPr>
        <p:spPr>
          <a:xfrm>
            <a:off x="2532240" y="1159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сследования качества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Самарской области в 2015-2016 уч.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9320" y="1071720"/>
          <a:ext cx="9094680" cy="5814720"/>
        </p:xfrm>
        <a:graphic>
          <a:graphicData uri="http://schemas.openxmlformats.org/drawingml/2006/table">
            <a:tbl>
              <a:tblPr/>
              <a:tblGrid>
                <a:gridCol w="1236600"/>
                <a:gridCol w="6858000"/>
                <a:gridCol w="100008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ая контрольная работа по физ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ИКО по информатике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9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пробация новых экзаменационных моделей по 4 учебным предметам: история, обществознание, география, информатика и И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ая контрольная работа по матема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овое исследование сформированности универсальных учебных действий (метапредметных результатов) у учащихся 5 классов, освоивших ФГОС начальной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пробация ВПР по программам начального общ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ая контрольная работа по иностранным язы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ИКО  по истории и обществозн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IRLS -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ая контрольная работа по литературе (сочин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ая контрольная работа по физ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овое исследование уровня обученности по математике выпускников, претендующих на аттестат с отлич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, 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сследование компетенций учителей русского языка, литературы и матема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ая контрольная работа по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ПР по программам начального  общ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50920" y="1069920"/>
            <a:ext cx="87138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ВОПРОСЫ ИССЛЕДОВАН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лучаемые по итогам проведения различных форм оценки качества образования (ЕГЭ, ОГЭ, НИКО, региональные (муниципальные) контрольные работы и т.п.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ы использоваться дл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из перечисленного в наибольшей мере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пособствует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может способствовать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ю качества образовани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3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зволяет ли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ющая в школе (школах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истема материального стимулировани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ителей на основании оценки эффективности их деятельности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бъективно оценивать качество работы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4) Какие из указанных форм позволяют дать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наиболее объективную оценку качества образовани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) Оценка качества образования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является наиболее объективной при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ледствием выявленных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ходе проведения различных форм оценки качества образования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елов в знаниях обучающихся должны становитьс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Низкие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разовательные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ащихся, чаще всего,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являются следствием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8)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ным результатом деятельности учителя являетс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556000" y="0"/>
            <a:ext cx="6588000" cy="98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сследование м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 системе оценки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062000" y="1314360"/>
            <a:ext cx="765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71640" y="1314360"/>
            <a:ext cx="70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9280" y="1052640"/>
            <a:ext cx="89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95280" y="1281240"/>
            <a:ext cx="8317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3059280" y="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азвитие системы оценки качества образования в Сама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ъект 1"/>
          <p:cNvSpPr/>
          <p:nvPr/>
        </p:nvSpPr>
        <p:spPr>
          <a:xfrm>
            <a:off x="17928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2195640" y="1268280"/>
            <a:ext cx="6624360" cy="4320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179280" y="1268280"/>
            <a:ext cx="2016360" cy="4320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 2001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179280" y="1844640"/>
            <a:ext cx="2016360" cy="5047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 2003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179280" y="2565360"/>
            <a:ext cx="2016360" cy="5032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 200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2"/>
          <p:cNvSpPr/>
          <p:nvPr/>
        </p:nvSpPr>
        <p:spPr>
          <a:xfrm>
            <a:off x="179280" y="4437000"/>
            <a:ext cx="2016360" cy="5047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 2014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2195640" y="1844640"/>
            <a:ext cx="6624360" cy="5047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ждународные исследования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S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SS, PIRL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195640" y="2565360"/>
            <a:ext cx="6637320" cy="5032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ГИА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5"/>
          <p:cNvSpPr/>
          <p:nvPr/>
        </p:nvSpPr>
        <p:spPr>
          <a:xfrm>
            <a:off x="2195640" y="4437000"/>
            <a:ext cx="6624360" cy="5047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ИКО и региональные контроль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6"/>
          <p:cNvSpPr/>
          <p:nvPr/>
        </p:nvSpPr>
        <p:spPr>
          <a:xfrm>
            <a:off x="179280" y="5084640"/>
            <a:ext cx="2016360" cy="1657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 2015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7"/>
          <p:cNvSpPr/>
          <p:nvPr/>
        </p:nvSpPr>
        <p:spPr>
          <a:xfrm>
            <a:off x="2195640" y="5084640"/>
            <a:ext cx="6624360" cy="1657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Оценка качества образовательной деятельност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мониторинг качества  учебного процесса, анализ  организации и эффективности внутренней  системы оценки качества в образовательных организациях, независимая оценка качества образовательной деятельности посредством проведения интернет-опро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179280" y="3213000"/>
            <a:ext cx="2016360" cy="107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 2011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"/>
          <p:cNvSpPr/>
          <p:nvPr/>
        </p:nvSpPr>
        <p:spPr>
          <a:xfrm>
            <a:off x="2195640" y="3213000"/>
            <a:ext cx="6630840" cy="107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омплексная оценка эффективности (качества) работы руководителей образовательных организаций и педагогов для начисления стимулирующей части Ф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2556000" y="0"/>
            <a:ext cx="6588000" cy="98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зультаты, получаемые по итогам проведения различных форм оценки качества образования должны использоваться д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Диаграмма 1" descr=""/>
          <p:cNvPicPr/>
          <p:nvPr/>
        </p:nvPicPr>
        <p:blipFill>
          <a:blip r:embed="rId1"/>
          <a:stretch/>
        </p:blipFill>
        <p:spPr>
          <a:xfrm>
            <a:off x="-50760" y="1217520"/>
            <a:ext cx="92455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2556000" y="0"/>
            <a:ext cx="658800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акие из указанных форм позволяют              дать наиболее объективную оце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ачества образ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Диаграмма 1" descr=""/>
          <p:cNvPicPr/>
          <p:nvPr/>
        </p:nvPicPr>
        <p:blipFill>
          <a:blip r:embed="rId1"/>
          <a:stretch/>
        </p:blipFill>
        <p:spPr>
          <a:xfrm>
            <a:off x="-50760" y="1217520"/>
            <a:ext cx="9245520" cy="5691240"/>
          </a:xfrm>
          <a:prstGeom prst="rect">
            <a:avLst/>
          </a:prstGeom>
          <a:ln w="0">
            <a:noFill/>
          </a:ln>
        </p:spPr>
      </p:pic>
      <p:sp>
        <p:nvSpPr>
          <p:cNvPr id="241" name="Овал 3"/>
          <p:cNvSpPr/>
          <p:nvPr/>
        </p:nvSpPr>
        <p:spPr>
          <a:xfrm>
            <a:off x="6084720" y="2133720"/>
            <a:ext cx="1673280" cy="3311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2928960" y="0"/>
            <a:ext cx="62150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изкие образовательные результаты учащихся, чаще вс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являются следствие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Диаграмма 1" descr=""/>
          <p:cNvPicPr/>
          <p:nvPr/>
        </p:nvPicPr>
        <p:blipFill>
          <a:blip r:embed="rId1"/>
          <a:stretch/>
        </p:blipFill>
        <p:spPr>
          <a:xfrm>
            <a:off x="-50760" y="1217520"/>
            <a:ext cx="9245520" cy="569124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3"/>
          <p:cNvSpPr/>
          <p:nvPr/>
        </p:nvSpPr>
        <p:spPr>
          <a:xfrm>
            <a:off x="611280" y="1413000"/>
            <a:ext cx="1674720" cy="22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Выноска со стрелкой вниз 2"/>
          <p:cNvSpPr/>
          <p:nvPr/>
        </p:nvSpPr>
        <p:spPr>
          <a:xfrm>
            <a:off x="8028000" y="2852640"/>
            <a:ext cx="936720" cy="863640"/>
          </a:xfrm>
          <a:prstGeom prst="downArrowCallout">
            <a:avLst>
              <a:gd name="adj1" fmla="val 24999"/>
              <a:gd name="adj2" fmla="val 25001"/>
              <a:gd name="adj3" fmla="val 25000"/>
              <a:gd name="adj4" fmla="val 6497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250920" y="1276920"/>
            <a:ext cx="8713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Основ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1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значительная разница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во взглядах между работающим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 городской и сельской местности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(а если разница есть, то она объясни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2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чительная разница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во взглядах меж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лодыми и опытными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работниками (но часто объяснима именно разницей в опы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3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чень значительная разница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во взглядах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ежду учителями и управленц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556000" y="0"/>
            <a:ext cx="6588000" cy="98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сследование м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 системе оценки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108000" y="1257840"/>
            <a:ext cx="8856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ГЛА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Требуется организова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широкую дискуссию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на её основ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ответить на вопросы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- Како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альнейший вектор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вития системы оценки качества образования: «извне» или «внутр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- Как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«разумная достаточность»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внешней оценки качества образ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- Есть ли способ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масштабной переориентаци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учителей на поиск «врага» в себе, а не вне себя («деградация школьников», семей; некачественно выстроенные системы ПК, метод. поддержки и т.д.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ил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следует пойти эволюционным путём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средоточиться на молодых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56000" y="0"/>
            <a:ext cx="6588000" cy="98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сследование м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 системе оценки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3"/>
          <p:cNvSpPr/>
          <p:nvPr/>
        </p:nvSpPr>
        <p:spPr>
          <a:xfrm>
            <a:off x="0" y="11541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8487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улина Светлана Юр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ститель министра Сама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-mail: unkso-samara@mail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79280" y="1052640"/>
            <a:ext cx="89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3059280" y="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азвитие системы оценки качества образования в Сама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хема 20" descr=""/>
          <p:cNvPicPr/>
          <p:nvPr/>
        </p:nvPicPr>
        <p:blipFill>
          <a:blip r:embed="rId1"/>
          <a:stretch/>
        </p:blipFill>
        <p:spPr>
          <a:xfrm>
            <a:off x="201600" y="1243080"/>
            <a:ext cx="8813880" cy="54435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1"/>
          <p:cNvSpPr/>
          <p:nvPr/>
        </p:nvSpPr>
        <p:spPr>
          <a:xfrm>
            <a:off x="3635280" y="1268280"/>
            <a:ext cx="295272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ая итоговая аттестация по образовательным программам основного и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2"/>
          <p:cNvSpPr/>
          <p:nvPr/>
        </p:nvSpPr>
        <p:spPr>
          <a:xfrm>
            <a:off x="6816600" y="1268280"/>
            <a:ext cx="171612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ые исследования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4140360" y="3005280"/>
            <a:ext cx="19285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ональные контрольны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4"/>
          <p:cNvSpPr/>
          <p:nvPr/>
        </p:nvSpPr>
        <p:spPr>
          <a:xfrm>
            <a:off x="1908000" y="4300560"/>
            <a:ext cx="6336000" cy="121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качества образования на уровне образовательной организации, включая комплексную оценку эффективности (качества) работы педагогов для начисления стимулирующей части Ф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4067280" y="5668920"/>
            <a:ext cx="21430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остоятельная оценка педагогом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619280" y="1268280"/>
            <a:ext cx="187308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народные исследования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7"/>
          <p:cNvSpPr/>
          <p:nvPr/>
        </p:nvSpPr>
        <p:spPr>
          <a:xfrm>
            <a:off x="6300720" y="3005280"/>
            <a:ext cx="22320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альные  и муниципальные проверочны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8"/>
          <p:cNvSpPr/>
          <p:nvPr/>
        </p:nvSpPr>
        <p:spPr>
          <a:xfrm>
            <a:off x="1776240" y="3005280"/>
            <a:ext cx="20750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качества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179280" y="1052640"/>
            <a:ext cx="89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3059280" y="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азвитие системы оценки качества образования в Сама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низ 12"/>
          <p:cNvSpPr/>
          <p:nvPr/>
        </p:nvSpPr>
        <p:spPr>
          <a:xfrm>
            <a:off x="826920" y="1339920"/>
            <a:ext cx="770580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ec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3"/>
          <p:cNvSpPr/>
          <p:nvPr/>
        </p:nvSpPr>
        <p:spPr>
          <a:xfrm>
            <a:off x="214200" y="2286000"/>
            <a:ext cx="857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фикация форм контроля уровня подготовки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комство с новым инструментарием и использование международных оценочных материалов в региональной модели оценки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регионального пула 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я программ развития образовательных учреждений с учетом необходимости повышения конкурентноспособности выпуск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ференциация размера оплаты труда педагогов и руководителей образовательных организаций в зависимости от результатов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3000240" y="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сследование, направленное на выявление факторов, влияющих на решение о выборе профессии выпускникам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285840" y="1643040"/>
            <a:ext cx="3857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2014 и 2015 годах в  исследовании приняли участи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 426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5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образовательных организаций Самарской области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 426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дителей обучающихся 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чителя физики реги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4357800" y="1285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 «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на вопрос для десятикласс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ы уже знаешь, какую професс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ешь в будущем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Диаграмма 10" descr=""/>
          <p:cNvPicPr/>
          <p:nvPr/>
        </p:nvPicPr>
        <p:blipFill>
          <a:blip r:embed="rId1"/>
          <a:stretch/>
        </p:blipFill>
        <p:spPr>
          <a:xfrm>
            <a:off x="4359240" y="1925640"/>
            <a:ext cx="4572000" cy="2244600"/>
          </a:xfrm>
          <a:prstGeom prst="rect">
            <a:avLst/>
          </a:prstGeom>
          <a:ln w="0">
            <a:noFill/>
          </a:ln>
        </p:spPr>
      </p:pic>
      <p:pic>
        <p:nvPicPr>
          <p:cNvPr id="172" name="Диаграмма 8" descr=""/>
          <p:cNvPicPr/>
          <p:nvPr/>
        </p:nvPicPr>
        <p:blipFill>
          <a:blip r:embed="rId2"/>
          <a:stretch/>
        </p:blipFill>
        <p:spPr>
          <a:xfrm>
            <a:off x="285840" y="3929040"/>
            <a:ext cx="8501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3000240" y="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сследование, направленное на выявление факторов, влияющих на решение о выборе профессии выпускникам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1214280"/>
            <a:ext cx="84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Диаграмма 9" descr=""/>
          <p:cNvPicPr/>
          <p:nvPr/>
        </p:nvPicPr>
        <p:blipFill>
          <a:blip r:embed="rId1"/>
          <a:stretch/>
        </p:blipFill>
        <p:spPr>
          <a:xfrm>
            <a:off x="0" y="4211640"/>
            <a:ext cx="4145040" cy="26463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1942560" y="12142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ортрет учителя физик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Диаграмма 13" descr=""/>
          <p:cNvPicPr/>
          <p:nvPr/>
        </p:nvPicPr>
        <p:blipFill>
          <a:blip r:embed="rId2"/>
          <a:stretch/>
        </p:blipFill>
        <p:spPr>
          <a:xfrm>
            <a:off x="4334040" y="4432320"/>
            <a:ext cx="4809960" cy="24256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4"/>
          <p:cNvSpPr/>
          <p:nvPr/>
        </p:nvSpPr>
        <p:spPr>
          <a:xfrm>
            <a:off x="5232600" y="164304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ое образова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учитель физ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Диаграмма 12" descr=""/>
          <p:cNvPicPr/>
          <p:nvPr/>
        </p:nvPicPr>
        <p:blipFill>
          <a:blip r:embed="rId3"/>
          <a:stretch/>
        </p:blipFill>
        <p:spPr>
          <a:xfrm>
            <a:off x="4711680" y="2073240"/>
            <a:ext cx="429264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Диаграмма 14" descr=""/>
          <p:cNvPicPr/>
          <p:nvPr/>
        </p:nvPicPr>
        <p:blipFill>
          <a:blip r:embed="rId4"/>
          <a:stretch/>
        </p:blipFill>
        <p:spPr>
          <a:xfrm>
            <a:off x="0" y="1925640"/>
            <a:ext cx="4932360" cy="26035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5"/>
          <p:cNvSpPr/>
          <p:nvPr/>
        </p:nvSpPr>
        <p:spPr>
          <a:xfrm>
            <a:off x="1369080" y="178596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ий с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062000" y="1314360"/>
            <a:ext cx="765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971640" y="1314360"/>
            <a:ext cx="70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9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95280" y="1281240"/>
            <a:ext cx="8317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3059280" y="0"/>
            <a:ext cx="58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пыт и перспективы реализации 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ных на повышение результатов обучающихся по физ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Схема 2" descr=""/>
          <p:cNvPicPr/>
          <p:nvPr/>
        </p:nvPicPr>
        <p:blipFill>
          <a:blip r:embed="rId1"/>
          <a:stretch/>
        </p:blipFill>
        <p:spPr>
          <a:xfrm>
            <a:off x="347760" y="1347840"/>
            <a:ext cx="8358120" cy="46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3059280" y="189000"/>
            <a:ext cx="58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егиональная контро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 физике в 10 классах (сентябрь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785880" y="1357200"/>
            <a:ext cx="32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ую контрольную работу по физике писали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 91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сятиклассников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Диаграмма 9" descr=""/>
          <p:cNvPicPr/>
          <p:nvPr/>
        </p:nvPicPr>
        <p:blipFill>
          <a:blip r:embed="rId1"/>
          <a:stretch/>
        </p:blipFill>
        <p:spPr>
          <a:xfrm>
            <a:off x="712800" y="2646360"/>
            <a:ext cx="7718400" cy="36320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0"/>
          <p:cNvSpPr/>
          <p:nvPr/>
        </p:nvSpPr>
        <p:spPr>
          <a:xfrm>
            <a:off x="5072040" y="1357200"/>
            <a:ext cx="335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правил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онтрольной рабо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7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сятиклассник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,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3059280" y="189000"/>
            <a:ext cx="58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егиональная контро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 физике в 10 классах (сентябрь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357120" y="5429160"/>
            <a:ext cx="8501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2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разовательных организаций в Самарской области реализуют программы углубленного изучения предмета «Физика» на старшей ступ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285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(10,1%) обучающихся  региона изучают предмет «Физика» в 10-11 классе по программе углубленной подгот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Диаграмма 5" descr=""/>
          <p:cNvPicPr/>
          <p:nvPr/>
        </p:nvPicPr>
        <p:blipFill>
          <a:blip r:embed="rId1"/>
          <a:stretch/>
        </p:blipFill>
        <p:spPr>
          <a:xfrm>
            <a:off x="212760" y="1139760"/>
            <a:ext cx="85042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7:48:27Z</dcterms:created>
  <dc:creator>"галина путинцева" &lt;pgp-samara@mail.ru&gt;</dc:creator>
  <dc:description/>
  <dc:language>en-US</dc:language>
  <cp:lastModifiedBy>Светлана Ю. Бакулина</cp:lastModifiedBy>
  <cp:lastPrinted>2015-11-21T09:50:06Z</cp:lastPrinted>
  <dcterms:modified xsi:type="dcterms:W3CDTF">2016-07-05T13:03:38Z</dcterms:modified>
  <cp:revision>880</cp:revision>
  <dc:subject/>
  <dc:title>Слайд 1</dc:title>
</cp:coreProperties>
</file>