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EE9-71A5-445D-B318-B1E0A7618B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012D-9FC6-4627-8D2D-76A6862CB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E51-BC43-4972-9442-4D7C865978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EDBF-99D8-4C59-AF0A-D0E550788A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52D7-7076-4B1B-B8DF-432B99B5D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F2E-854F-47F0-8845-BDAC68704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859-4230-4BFF-8279-85F0C352A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7C50-F5ED-4CA4-A4FB-9534064CA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537-A7BE-4680-BFD9-504CF32EC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4E1-DFE0-4A88-9541-44954BC0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558-67E7-4F2B-A804-9C3167DE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799-44FF-4949-84C6-05B939C6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A51-C5B7-4EE4-BAB3-8C218226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55A-76A0-4D5E-A35D-1DE83D2C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C08-B44C-4B21-9A15-A266DE4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6CFF-1821-4689-9AD2-2F9D9884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712A-CF5D-4066-8193-84D8824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A51-91DE-44C1-B24E-DC3F925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8C1A-83AA-4419-ACF5-37DACC2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287-3613-4324-AAB8-527194EA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F5D-7DCE-4B40-9068-9D54647B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A44B-B24E-492D-A62E-CF03A9A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C3A4-807E-467F-A171-811D101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049D-7F58-4295-AB90-BA6DEEAC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2915-08C7-4F61-8E56-7B0B0129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266-A415-4E5C-B144-709841F0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7BF2-4A5A-44C5-9BEA-2F7DA35E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DB80-9998-462F-BC3B-13261A6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8374-2407-4093-B339-F3CE361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89E1-C09D-4FD3-93EB-C2444940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78E5-A520-4E4C-BC8E-75EA7C3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B75-8374-45B5-90A9-EC46C13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F0CA-DFEF-4463-9D83-D871C83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2E99-122F-4E87-965B-A7F5547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4D2A-4F81-401B-83B0-7CC2F5B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A75A-E483-4B78-81AB-F1D18896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B181-92C3-4E5B-8719-F8A5FB9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62B1-4960-4576-8BD8-29FC9FE0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0100-2DE2-4963-8A0F-55091F97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9CE-9E7B-42D0-A0D5-900EA347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307-6944-4A8A-A8FF-948EDDE0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A45-9D25-43B8-8671-054A8CB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5F6-4F86-474D-9A5E-9ED7D7B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CD-D670-474C-BC20-3C65351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E61-EA97-4552-BAFD-C11603B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55B-4DE4-41AB-A0FD-4CD87931DB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31A7-FF12-408B-9E70-F965D72CF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7C9-D26A-413B-95CB-A99B9ABCB7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2DD-E101-472D-A0B8-383FD1E7D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C8B0-3416-4F5A-896C-E433E376ACB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C75-9B02-4A57-B7BF-4FEAA86AAE3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622520" y="1924200"/>
            <a:ext cx="6099120" cy="1129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Итоги проведения ВПР и НИКО в 2016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5597"/>
                </a:solidFill>
                <a:latin typeface="Cambria"/>
              </a:rPr>
              <a:t>Сергей Владимирович Станченко, руководитель Центра национальных и международных исследований ФИО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826920" y="474840"/>
          <a:ext cx="7632720" cy="4416120"/>
        </p:xfrm>
        <a:graphic>
          <a:graphicData uri="http://schemas.openxmlformats.org/drawingml/2006/table">
            <a:tbl>
              <a:tblPr/>
              <a:tblGrid>
                <a:gridCol w="7058160"/>
                <a:gridCol w="574560"/>
              </a:tblGrid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е замечания и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срок проведения на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ратить объем заданий или увеличить время (до 60 мину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 перевод работ на 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мотреть возможность проведения ВПР для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которых заданиях не учтены возрастные особен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смотреть перевод баллов в отметку по пятибалльной шкале. (отметку 5 баллов можно получить даже при совершении нескольких ошиб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сти отдельное оценивание для заданий олимпиад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етить задания олимпиад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ывать особенности сельской местности при формулировки заданий. (слово «менеджер» требовало объясн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номерная сложность заданий по вариан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ь одну комплексную работу по трем предм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версии по предметам были размещены на сайте не одноврем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5580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с скачивания материалов и подгрузки результатов на сайт проходил с перебо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ить время на проверку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разрешить печатать на 2 сторонах листа, более компактно располагать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55640" y="484200"/>
          <a:ext cx="7848720" cy="2698560"/>
        </p:xfrm>
        <a:graphic>
          <a:graphicData uri="http://schemas.openxmlformats.org/drawingml/2006/table">
            <a:tbl>
              <a:tblPr/>
              <a:tblGrid>
                <a:gridCol w="7345440"/>
                <a:gridCol w="503280"/>
              </a:tblGrid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ценивать 1 и 2 части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ить части и провести в один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ить количество заданий 2-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ы текстов и сложность заданий разных вариантов неравнознач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кст диктанта сло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й художественный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й публицистический текст, необходимо использовать художественный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динаковые по степени сложности тек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 9 имеет разный уровень сложности по вариантам («выражение» сложнее, чем «парта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28560" y="411120"/>
          <a:ext cx="7848720" cy="4416480"/>
        </p:xfrm>
        <a:graphic>
          <a:graphicData uri="http://schemas.openxmlformats.org/drawingml/2006/table">
            <a:tbl>
              <a:tblPr/>
              <a:tblGrid>
                <a:gridCol w="7345440"/>
                <a:gridCol w="503280"/>
              </a:tblGrid>
              <a:tr h="4899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9. Дети не поняли задание. Дети стали объяснять именно это выражение  «ледяное молчание», а не смысл слова «выражение». (понимание абстрактных понят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9 значение слова «парта» в словосочетании «сесть за парту» логичнее было бы объяснить, как «пойти в школу» или «пойти учиться». В ответе же мы читаем «Парта – это школьный стол». Зачем использовать указанный в задании контекст? Или нужно конкретн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ости с заданием 6,7. Сложности с делением текста на смысловые части, составлением плана, определением главной мысли 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4. В некоторых абзацах содержится не одна, а несколько микротем, что вызывает определённую сложность при составлении пла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отреблены слова, которые учащиеся не знают по возрасту. Задание с постановкой уда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орректные 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 включают не пройденную тему «нареч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 16 по русскому языку – должна быть более конкретная формулировка задания и критерия его оцени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опускает наличие не только развёрнутого ответа, но и краткой формы благодарности, что не позволяет проверить заявленное ум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 27 находится в свободном доступе в интернет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996840"/>
          <a:ext cx="7920000" cy="2698920"/>
        </p:xfrm>
        <a:graphic>
          <a:graphicData uri="http://schemas.openxmlformats.org/drawingml/2006/table">
            <a:tbl>
              <a:tblPr/>
              <a:tblGrid>
                <a:gridCol w="7272360"/>
                <a:gridCol w="647640"/>
              </a:tblGrid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сти с заданием №11.  Сложный текст задания. Относится к олимпиадному тип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агать решать задания олимпиадного типа по желанию. Оформить их в дополнительную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 10 требует от обучающегося хорошо развитого пространственного представления, отработка подобных заданий не предусмотрена требованиями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 на логическое мышление вызвали затруд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номерная сложность заданий по вариантам (чаще всего 11 зад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ыло таких заданий, как уравнение и сравнение величин, вычисление многозначных чисел, решение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уделено внимания на проверку прохождения учебного материала по програм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112680"/>
          <a:ext cx="8280360" cy="4907160"/>
        </p:xfrm>
        <a:graphic>
          <a:graphicData uri="http://schemas.openxmlformats.org/drawingml/2006/table">
            <a:tbl>
              <a:tblPr/>
              <a:tblGrid>
                <a:gridCol w="7775640"/>
                <a:gridCol w="504720"/>
              </a:tblGrid>
              <a:tr h="24624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жающи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-белая печать изображений затрудняет ответ ученика. Рисунки должны быть цветными. Качество изображений плох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сти с заданием №6 с опытами, экспери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оответствие с программой, превышает ее (в частности тема «строение тела», «география материков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орректные или сложные для восприятия формулировки зад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и заданий расходились с заданиями в учебни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ой объем заданий с письменным ответом для отведенного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сти с заданием №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картинки и текста на разных лис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№ 5 «Рисунок человека» сложности с нахождением лодыжки, паха, икры. Незнакомый терми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сти с заданием № 5 «Рисунок человека» - фигура человека изображена не в профиль, сложно отметить пя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агаем учитывать особенности сельской местности. Использовать примеры, которые характерны для местности проживания ученика. (незнакомое слово «папирус», «пума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остить систему оцен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различны по сл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ить критерии оцен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611280" y="1195560"/>
            <a:ext cx="7921440" cy="238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1"/>
          <p:cNvSpPr/>
          <p:nvPr/>
        </p:nvSpPr>
        <p:spPr>
          <a:xfrm>
            <a:off x="1622520" y="2284560"/>
            <a:ext cx="6099120" cy="368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mbri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07-08T07:53:50Z</dcterms:modified>
  <cp:revision>595</cp:revision>
  <dc:subject/>
  <dc:title>Презентация PowerPoint</dc:title>
</cp:coreProperties>
</file>