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5.png" ContentType="image/png"/>
  <Override PartName="/ppt/media/image7.gif" ContentType="image/gif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gif" ContentType="image/gif"/>
  <Override PartName="/ppt/media/image9.jpeg" ContentType="image/jpeg"/>
  <Override PartName="/ppt/media/image11.jpeg" ContentType="image/jpe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4115-E7FF-4694-A0DD-66B365AB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6977-92EB-402E-974B-A485EC04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791C-4F95-428F-99DC-1D150DC6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36B5-A5AE-4266-A432-35CDAD8E8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615C-9911-4C3B-88A9-5C2CEC05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BB78-B420-4F03-9188-2EEBEAB2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455B-9E02-42C1-85A6-DB0CC6C7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C7E1-6802-460C-959A-D43C88B7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0271-4EA1-40D9-857D-512AB1AE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6AE7-F363-4DF6-9EE4-C692A265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04DF-3DA4-4CE0-8C6E-CC7875B2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FAF7-6F83-4B0C-9CF3-6FB38C8C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F2A5-295C-4F39-A369-84BA523017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hyperlink" Target="http://st.free-lance.ru/users/sklavinica/upload/sm_f_4ae0310e7cf14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hyperlink" Target="http://www.1000dosok.ru/s/29-11-5628316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www.ceramgzhel.ru/img/page_img/krug%20ruchnoi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" Target="slide8.xml"/><Relationship Id="rId4" Type="http://schemas.openxmlformats.org/officeDocument/2006/relationships/slide" Target="slide12.xml"/><Relationship Id="rId5" Type="http://schemas.openxmlformats.org/officeDocument/2006/relationships/slide" Target="slide16.xml"/><Relationship Id="rId6" Type="http://schemas.openxmlformats.org/officeDocument/2006/relationships/slide" Target="slide20.xml"/><Relationship Id="rId7" Type="http://schemas.openxmlformats.org/officeDocument/2006/relationships/slide" Target="slide4.xml"/><Relationship Id="rId8" Type="http://schemas.openxmlformats.org/officeDocument/2006/relationships/slide" Target="slide9.xml"/><Relationship Id="rId9" Type="http://schemas.openxmlformats.org/officeDocument/2006/relationships/slide" Target="slide13.xml"/><Relationship Id="rId10" Type="http://schemas.openxmlformats.org/officeDocument/2006/relationships/slide" Target="slide17.xml"/><Relationship Id="rId11" Type="http://schemas.openxmlformats.org/officeDocument/2006/relationships/slide" Target="slide5.xml"/><Relationship Id="rId12" Type="http://schemas.openxmlformats.org/officeDocument/2006/relationships/slide" Target="slide14.xml"/><Relationship Id="rId13" Type="http://schemas.openxmlformats.org/officeDocument/2006/relationships/slide" Target="slide18.xml"/><Relationship Id="rId14" Type="http://schemas.openxmlformats.org/officeDocument/2006/relationships/slide" Target="slide21.xml"/><Relationship Id="rId15" Type="http://schemas.openxmlformats.org/officeDocument/2006/relationships/slide" Target="slide6.xml"/><Relationship Id="rId16" Type="http://schemas.openxmlformats.org/officeDocument/2006/relationships/slide" Target="slide10.xml"/><Relationship Id="rId17" Type="http://schemas.openxmlformats.org/officeDocument/2006/relationships/slide" Target="slide22.xml"/><Relationship Id="rId18" Type="http://schemas.openxmlformats.org/officeDocument/2006/relationships/slide" Target="slide7.xml"/><Relationship Id="rId19" Type="http://schemas.openxmlformats.org/officeDocument/2006/relationships/slide" Target="slide15.xml"/><Relationship Id="rId20" Type="http://schemas.openxmlformats.org/officeDocument/2006/relationships/slide" Target="slide19.xml"/><Relationship Id="rId21" Type="http://schemas.openxmlformats.org/officeDocument/2006/relationships/slide" Target="slide23.xml"/><Relationship Id="rId22" Type="http://schemas.openxmlformats.org/officeDocument/2006/relationships/slide" Target="slide11.xml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hyperlink" Target="http://www.nationalufocenter.com/artman/uploads/01cromagnanman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hyperlink" Target="http://www.patent.net.ua/res/images/large/1908.jpg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ЗАНЯТИЯ ДРЕВНИХ ЛЮДЕЙ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3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928520"/>
            <a:ext cx="8929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та и собирательство стали основой для других занятий. Назовите их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>
            <a:hlinkClick r:id="rId1" action="ppaction://hlinksldjump"/>
          </p:cNvPr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42960" y="4643280"/>
            <a:ext cx="817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Скотоводство и земледел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ЗАНЯТИЯ ДРЕВНИХ ЛЮДЕЙ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4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2560" y="1571760"/>
            <a:ext cx="900108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 из первобытных племён не оставило археологических памятников. Но известно, что в языке племени были слова «копьё», «корзина», «лодка», «весл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этих слов назовите занятия первобытны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>
            <a:hlinkClick r:id="rId1" action="ppaction://hlinksldjump"/>
          </p:cNvPr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00040" y="478620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Охота, собирательство, рыболов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ИЗОБРЕТЕНИЯ И ОТКРЫТИЯ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8929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к получилось каменное рубил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>
            <a:hlinkClick r:id="rId1" action="ppaction://hlinksldjump"/>
          </p:cNvPr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500120" y="3571920"/>
            <a:ext cx="64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Ударами одного камня о друг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ИЗОБРЕТЕНИЯ И ОТКРЫТИЯ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 (20)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571760"/>
            <a:ext cx="8229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6 тысяч лет назад люди заметили, что некоторые камни не раскалываются от удара. Попадая в огонь, они смягчаются и, застывая, приобретают новую фор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новый материал для изготовления орудий труда обнаружили люд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>
            <a:hlinkClick r:id="rId1" action="ppaction://hlinksldjump"/>
          </p:cNvPr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85840" y="5214960"/>
            <a:ext cx="81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Мед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ИЗОБРЕТЕНИЯ И ОТКРЫТИЯ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30)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7120" y="1714320"/>
            <a:ext cx="842976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то дал древним людям огон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>
            <a:hlinkClick r:id="rId1" action="ppaction://hlinksldjump"/>
          </p:cNvPr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143160" y="3500280"/>
            <a:ext cx="5143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Тепло, защиту от животных, горячую пищ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http://st.free-lance.ru/users/sklavinica/upload/sm_f_4ae0310e7cf1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3643200"/>
            <a:ext cx="267516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ИЗОБРЕТЕНИЯ И ОТКРЫТИЯ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40)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500120"/>
            <a:ext cx="89298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822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хватке с крупными животными копьё было могучим оружием. Однако, в конце ледникового времени мамонты вымерли. Люди стали чаще охотиться на мелких и быстро бегающих животных. Необходимо было новое оруж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>
            <a:hlinkClick r:id="rId1" action="ppaction://hlinksldjump"/>
          </p:cNvPr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57120" y="5214960"/>
            <a:ext cx="8496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Лук и стрел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ИСТОРИЯ ВЕЩЕЙ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то использовали первобытные люди для изготовления посуд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>
            <a:hlinkClick r:id="rId1" action="ppaction://hlinksldjump"/>
          </p:cNvPr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429160" y="428616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Глин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P5010018"/>
          <p:cNvPicPr/>
          <p:nvPr/>
        </p:nvPicPr>
        <p:blipFill>
          <a:blip r:embed="rId2"/>
          <a:stretch/>
        </p:blipFill>
        <p:spPr>
          <a:xfrm>
            <a:off x="214200" y="3517920"/>
            <a:ext cx="4143600" cy="3108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ИСТОРИЯ ВЕЩЕЙ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2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кое приспособление помогало изготавливать глиняную посуд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>
            <a:hlinkClick r:id="rId1" action="ppaction://hlinksldjump"/>
          </p:cNvPr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571840" y="4000680"/>
            <a:ext cx="414324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Гончарный кру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Картинка 3 из 14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286080"/>
            <a:ext cx="2257560" cy="3381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Картинка 44 из 249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6720" y="3643200"/>
            <a:ext cx="235728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ИСТОРИЯ ВЕЩЕЙ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3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ту вещь археологи нашли во время раскопок. Она служила для вскапывания земли, что э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>
            <a:hlinkClick r:id="rId1" action="ppaction://hlinksldjump"/>
          </p:cNvPr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571920" y="4714920"/>
            <a:ext cx="524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Мотыг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Картинка 6 из 10380"/>
          <p:cNvPicPr/>
          <p:nvPr/>
        </p:nvPicPr>
        <p:blipFill>
          <a:blip r:embed="rId2"/>
          <a:stretch/>
        </p:blipFill>
        <p:spPr>
          <a:xfrm>
            <a:off x="1928880" y="4214880"/>
            <a:ext cx="164448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ИСТОРИЯ ВЕЩЕЙ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4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57120" y="1412640"/>
            <a:ext cx="878688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еологи обнаружили стоянку первобытных людей. При раскопках был обнаружен скелет однорукого мужчины, погибшего под обрушившимся сводом пещеры. Изучение скелета показало, что в момент смерти ему было около 40 лет, а правую руку он потерял ещё в юношеском возрасте. Кто помог ему не умереть от голода и дожить до пожилого возра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4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42960" y="5572080"/>
            <a:ext cx="70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Родовая общ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1403280" y="1916280"/>
            <a:ext cx="7500960" cy="20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"Исторический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 </a:t>
            </a: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поединок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43" name="20th_century_FOX-Фанфары.mp3" descr=""/>
          <p:cNvPicPr/>
          <p:nvPr/>
        </p:nvPicPr>
        <p:blipFill>
          <a:blip r:embed="rId7"/>
          <a:stretch/>
        </p:blipFill>
        <p:spPr>
          <a:xfrm>
            <a:off x="500040" y="61437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5"/>
          <p:cNvSpPr/>
          <p:nvPr/>
        </p:nvSpPr>
        <p:spPr>
          <a:xfrm>
            <a:off x="4788000" y="189000"/>
            <a:ext cx="41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я древнего мира. Жизнь первобытны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4" descr=""/>
          <p:cNvPicPr/>
          <p:nvPr/>
        </p:nvPicPr>
        <p:blipFill>
          <a:blip r:embed="rId8"/>
          <a:stretch/>
        </p:blipFill>
        <p:spPr>
          <a:xfrm>
            <a:off x="0" y="0"/>
            <a:ext cx="241308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9"/>
          <a:stretch/>
        </p:blipFill>
        <p:spPr>
          <a:xfrm>
            <a:off x="7140600" y="4543560"/>
            <a:ext cx="20034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РЕЛИГИЯ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чем древние люди рисовали на стенах пещер пораженных копьем животны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286080" y="3571920"/>
            <a:ext cx="5535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Они считали, что такой рисунок поможет добиться успех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Картинка 10 из 4519"/>
          <p:cNvPicPr/>
          <p:nvPr/>
        </p:nvPicPr>
        <p:blipFill>
          <a:blip r:embed="rId1"/>
          <a:stretch/>
        </p:blipFill>
        <p:spPr>
          <a:xfrm>
            <a:off x="0" y="4000680"/>
            <a:ext cx="32670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РЕЛИГИЯ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2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ера людей в колдовство, оборотней, жизнь после смерти называется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0" y="41432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Религ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РЕЛИГИЯ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3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то изображен и для чего он служил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357280" y="3429000"/>
            <a:ext cx="471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Идол, для поклонения и жертвопринош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Картинка 28 из 52529"/>
          <p:cNvPicPr/>
          <p:nvPr/>
        </p:nvPicPr>
        <p:blipFill>
          <a:blip r:embed="rId1"/>
          <a:stretch/>
        </p:blipFill>
        <p:spPr>
          <a:xfrm>
            <a:off x="357120" y="2571840"/>
            <a:ext cx="20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Картинка 8 из 52529"/>
          <p:cNvPicPr/>
          <p:nvPr/>
        </p:nvPicPr>
        <p:blipFill>
          <a:blip r:embed="rId2"/>
          <a:stretch/>
        </p:blipFill>
        <p:spPr>
          <a:xfrm>
            <a:off x="7089840" y="2286000"/>
            <a:ext cx="205416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РЕЛИГИЯ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4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468360" y="1700280"/>
            <a:ext cx="846144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имволическое изображение бога- идол. Люди ему не только поклонялись, но и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285840" y="4357800"/>
            <a:ext cx="7742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Секли его прутьями, если были неурожай или гибель скот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826920" y="142920"/>
            <a:ext cx="770580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Исторический поединок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48" name="AutoShape 5"/>
          <p:cNvSpPr/>
          <p:nvPr/>
        </p:nvSpPr>
        <p:spPr>
          <a:xfrm rot="10800000">
            <a:off x="323640" y="980640"/>
            <a:ext cx="2447640" cy="719280"/>
          </a:xfrm>
          <a:prstGeom prst="flowChartDisplay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2"/>
          <p:cNvSpPr/>
          <p:nvPr/>
        </p:nvSpPr>
        <p:spPr>
          <a:xfrm rot="10800000">
            <a:off x="250560" y="1989000"/>
            <a:ext cx="2592360" cy="935280"/>
          </a:xfrm>
          <a:prstGeom prst="flowChartDisplay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ня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ревн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3"/>
          <p:cNvSpPr/>
          <p:nvPr/>
        </p:nvSpPr>
        <p:spPr>
          <a:xfrm rot="10800000">
            <a:off x="250920" y="3141720"/>
            <a:ext cx="2665440" cy="1079280"/>
          </a:xfrm>
          <a:prstGeom prst="flowChartDisplay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зобретени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кр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5"/>
          <p:cNvSpPr/>
          <p:nvPr/>
        </p:nvSpPr>
        <p:spPr>
          <a:xfrm rot="10800000">
            <a:off x="250920" y="4436640"/>
            <a:ext cx="2665440" cy="863640"/>
          </a:xfrm>
          <a:prstGeom prst="flowChartDisplay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7"/>
          <p:cNvSpPr/>
          <p:nvPr/>
        </p:nvSpPr>
        <p:spPr>
          <a:xfrm rot="10800000">
            <a:off x="250920" y="5660640"/>
            <a:ext cx="2665440" cy="792360"/>
          </a:xfrm>
          <a:prstGeom prst="flowChartDisplay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ли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5">
            <a:hlinkClick r:id="rId3" action="ppaction://hlinksldjump"/>
          </p:cNvPr>
          <p:cNvSpPr/>
          <p:nvPr/>
        </p:nvSpPr>
        <p:spPr>
          <a:xfrm>
            <a:off x="3132000" y="2060640"/>
            <a:ext cx="1008360" cy="86508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6">
            <a:hlinkClick r:id="rId4" action="ppaction://hlinksldjump"/>
          </p:cNvPr>
          <p:cNvSpPr/>
          <p:nvPr/>
        </p:nvSpPr>
        <p:spPr>
          <a:xfrm>
            <a:off x="3132000" y="3284640"/>
            <a:ext cx="1008360" cy="86508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58">
            <a:hlinkClick r:id="rId5" action="ppaction://hlinksldjump"/>
          </p:cNvPr>
          <p:cNvSpPr/>
          <p:nvPr/>
        </p:nvSpPr>
        <p:spPr>
          <a:xfrm>
            <a:off x="3132000" y="4437000"/>
            <a:ext cx="1008360" cy="863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60">
            <a:hlinkClick r:id="rId6" action="ppaction://hlinksldjump"/>
          </p:cNvPr>
          <p:cNvSpPr/>
          <p:nvPr/>
        </p:nvSpPr>
        <p:spPr>
          <a:xfrm>
            <a:off x="3132000" y="5516640"/>
            <a:ext cx="1079640" cy="93816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1">
            <a:hlinkClick r:id="rId7" action="ppaction://hlinksldjump"/>
          </p:cNvPr>
          <p:cNvSpPr/>
          <p:nvPr/>
        </p:nvSpPr>
        <p:spPr>
          <a:xfrm>
            <a:off x="3132000" y="981000"/>
            <a:ext cx="1008360" cy="79236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62">
            <a:hlinkClick r:id="rId8" action="ppaction://hlinksldjump"/>
          </p:cNvPr>
          <p:cNvSpPr/>
          <p:nvPr/>
        </p:nvSpPr>
        <p:spPr>
          <a:xfrm>
            <a:off x="4500720" y="2060640"/>
            <a:ext cx="1079280" cy="865080"/>
          </a:xfrm>
          <a:prstGeom prst="bevel">
            <a:avLst>
              <a:gd name="adj" fmla="val 125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63">
            <a:hlinkClick r:id="rId9" action="ppaction://hlinksldjump"/>
          </p:cNvPr>
          <p:cNvSpPr/>
          <p:nvPr/>
        </p:nvSpPr>
        <p:spPr>
          <a:xfrm>
            <a:off x="4500720" y="3284640"/>
            <a:ext cx="1079280" cy="865080"/>
          </a:xfrm>
          <a:prstGeom prst="bevel">
            <a:avLst>
              <a:gd name="adj" fmla="val 125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65">
            <a:hlinkClick r:id="rId10" action="ppaction://hlinksldjump"/>
          </p:cNvPr>
          <p:cNvSpPr/>
          <p:nvPr/>
        </p:nvSpPr>
        <p:spPr>
          <a:xfrm>
            <a:off x="4500720" y="4437000"/>
            <a:ext cx="1079280" cy="863640"/>
          </a:xfrm>
          <a:prstGeom prst="bevel">
            <a:avLst>
              <a:gd name="adj" fmla="val 125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68">
            <a:hlinkClick r:id="rId11" action="ppaction://hlinksldjump"/>
          </p:cNvPr>
          <p:cNvSpPr/>
          <p:nvPr/>
        </p:nvSpPr>
        <p:spPr>
          <a:xfrm>
            <a:off x="4500720" y="981000"/>
            <a:ext cx="1079280" cy="792360"/>
          </a:xfrm>
          <a:prstGeom prst="bevel">
            <a:avLst>
              <a:gd name="adj" fmla="val 125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70">
            <a:hlinkClick r:id="rId12" action="ppaction://hlinksldjump"/>
          </p:cNvPr>
          <p:cNvSpPr/>
          <p:nvPr/>
        </p:nvSpPr>
        <p:spPr>
          <a:xfrm>
            <a:off x="6012000" y="3284640"/>
            <a:ext cx="1081080" cy="8650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72">
            <a:hlinkClick r:id="rId13" action="ppaction://hlinksldjump"/>
          </p:cNvPr>
          <p:cNvSpPr/>
          <p:nvPr/>
        </p:nvSpPr>
        <p:spPr>
          <a:xfrm>
            <a:off x="6012000" y="4437000"/>
            <a:ext cx="1081080" cy="8650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74">
            <a:hlinkClick r:id="rId14" action="ppaction://hlinksldjump"/>
          </p:cNvPr>
          <p:cNvSpPr/>
          <p:nvPr/>
        </p:nvSpPr>
        <p:spPr>
          <a:xfrm>
            <a:off x="4500720" y="5516640"/>
            <a:ext cx="1079280" cy="865080"/>
          </a:xfrm>
          <a:prstGeom prst="bevel">
            <a:avLst>
              <a:gd name="adj" fmla="val 125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75">
            <a:hlinkClick r:id="rId15" action="ppaction://hlinksldjump"/>
          </p:cNvPr>
          <p:cNvSpPr/>
          <p:nvPr/>
        </p:nvSpPr>
        <p:spPr>
          <a:xfrm>
            <a:off x="6012000" y="981000"/>
            <a:ext cx="1081080" cy="792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6">
            <a:hlinkClick r:id="rId16" action="ppaction://hlinksldjump"/>
          </p:cNvPr>
          <p:cNvSpPr/>
          <p:nvPr/>
        </p:nvSpPr>
        <p:spPr>
          <a:xfrm>
            <a:off x="6012000" y="2060640"/>
            <a:ext cx="1081080" cy="8650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1">
            <a:hlinkClick r:id="rId17" action="ppaction://hlinksldjump"/>
          </p:cNvPr>
          <p:cNvSpPr/>
          <p:nvPr/>
        </p:nvSpPr>
        <p:spPr>
          <a:xfrm>
            <a:off x="6012000" y="5516640"/>
            <a:ext cx="1079280" cy="93672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82">
            <a:hlinkClick r:id="rId18" action="ppaction://hlinksldjump"/>
          </p:cNvPr>
          <p:cNvSpPr/>
          <p:nvPr/>
        </p:nvSpPr>
        <p:spPr>
          <a:xfrm>
            <a:off x="7380360" y="981000"/>
            <a:ext cx="100800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83">
            <a:hlinkClick r:id="rId19" action="ppaction://hlinksldjump"/>
          </p:cNvPr>
          <p:cNvSpPr/>
          <p:nvPr/>
        </p:nvSpPr>
        <p:spPr>
          <a:xfrm>
            <a:off x="7380360" y="3284640"/>
            <a:ext cx="1079280" cy="86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85">
            <a:hlinkClick r:id="rId20" action="ppaction://hlinksldjump"/>
          </p:cNvPr>
          <p:cNvSpPr/>
          <p:nvPr/>
        </p:nvSpPr>
        <p:spPr>
          <a:xfrm>
            <a:off x="7380360" y="4437000"/>
            <a:ext cx="1079280" cy="86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87">
            <a:hlinkClick r:id="rId21" action="ppaction://hlinksldjump"/>
          </p:cNvPr>
          <p:cNvSpPr/>
          <p:nvPr/>
        </p:nvSpPr>
        <p:spPr>
          <a:xfrm>
            <a:off x="7380360" y="5516640"/>
            <a:ext cx="1079280" cy="936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88">
            <a:hlinkClick r:id="rId22" action="ppaction://hlinksldjump"/>
          </p:cNvPr>
          <p:cNvSpPr/>
          <p:nvPr/>
        </p:nvSpPr>
        <p:spPr>
          <a:xfrm>
            <a:off x="7380360" y="2060640"/>
            <a:ext cx="1079280" cy="86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ЛЕНТА ВРЕМЕНИ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57466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гда появили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ервые люд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>
            <a:hlinkClick r:id="rId1" action="ppaction://hlinksldjump"/>
          </p:cNvPr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857160" y="4365720"/>
            <a:ext cx="650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2 миллиона лет наза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Xthtg gthdj, xtkf lkz ghtptynfwbq"/>
          <p:cNvPicPr/>
          <p:nvPr/>
        </p:nvPicPr>
        <p:blipFill>
          <a:blip r:embed="rId2"/>
          <a:stretch/>
        </p:blipFill>
        <p:spPr>
          <a:xfrm>
            <a:off x="6286680" y="1714680"/>
            <a:ext cx="228600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ЛЕНТА ВРЕМЕНИ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2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к называется отрезо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ремени в 10 век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>
            <a:hlinkClick r:id="rId1" action="ppaction://hlinksldjump"/>
          </p:cNvPr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195640" y="436572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Тысячелет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ЛЕНТА ВРЕМЕНИ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30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357720" y="1844640"/>
            <a:ext cx="5643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колько лет назад появились земледелие и скотоводств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>
            <a:hlinkClick r:id="rId1" action="ppaction://hlinksldjump"/>
          </p:cNvPr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000680" y="4292640"/>
            <a:ext cx="481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10 тысяч лет наза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Картинка 1 из 1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2786040"/>
            <a:ext cx="3071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ЛЕНТА ВРЕМЕНИ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4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22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то было раньше и на скольк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40 год до нашей эры или 40 год нашей эр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>
            <a:hlinkClick r:id="rId1" action="ppaction://hlinksldjump"/>
          </p:cNvPr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143000" y="4365720"/>
            <a:ext cx="671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9900"/>
                </a:solidFill>
                <a:latin typeface="Times New Roman"/>
              </a:rPr>
              <a:t>40 год до нашей эры на 80 ле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ЗАНЯТИЯ ДРЕВНИХ ЛЮДЕЙ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43040" y="1499760"/>
            <a:ext cx="75009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оте во время археологических раскопок было найдено 339 каменных орудий и свыше 10000 обломков костей животных. Из общего количества костей удалось установить принадлежность 948. Из них лошади -2, медведя-2, горного козла- 767, леопарда -1. Определите главное занятие обитателей грота ?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>
            <a:hlinkClick r:id="rId1" action="ppaction://hlinksldjump"/>
          </p:cNvPr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14720" y="5643720"/>
            <a:ext cx="578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Ох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Картинка 45 из 505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071800"/>
            <a:ext cx="20001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ЗАНЯТИЯ ДРЕВНИХ ЛЮДЕЙ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2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зовите древнейшие орудия тру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>
            <a:hlinkClick r:id="rId1" action="ppaction://hlinksldjump"/>
          </p:cNvPr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85840" y="3786120"/>
            <a:ext cx="84294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Рубило, палка-копалка, дуб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0:07:39Z</dcterms:created>
  <dc:creator>ИГОРЕВИЧ</dc:creator>
  <dc:description/>
  <dc:language>en-US</dc:language>
  <cp:lastModifiedBy>ВИКА</cp:lastModifiedBy>
  <dcterms:modified xsi:type="dcterms:W3CDTF">2015-09-29T18:16:46Z</dcterms:modified>
  <cp:revision>202</cp:revision>
  <dc:subject/>
  <dc:title>«ТВОЯ ИГР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